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A2F0-662D-4935-B975-6A84EBBA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7077-6D07-4735-9959-9790BCEA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5FED-953E-4175-A588-BD9F9657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FA06-9162-4A01-9604-86411880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E9F7-D6F7-4720-B4EB-C98C08D0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09E6-66AC-451D-933E-07CF50B4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DB1B-D52C-4BDC-8EF4-C49AB3AB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C2E9-0676-40AA-9117-3EEBA28E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8128-6FD9-4B7D-9AE3-5A6AE70B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3F71-E81A-4C80-B90B-6F7E18B4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45A6-2AE7-4805-9798-32F3F3E3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B5FE-9E81-4ED8-A7E2-227E51BB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BA12-C7C0-4EDB-965B-9F6407A10D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0" y="1600200"/>
            <a:ext cx="6095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2-Re_Fl_L4&amp;feature=related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kJtcO8t_3E&amp;feature=related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hapter 10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uct Disorder and Related 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. Diane Shea, Ph.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</a:rPr>
              <a:t>Behavioral Deficits</a:t>
            </a: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ial Behavi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s few frie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cks affection or bo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s few problem-solving skil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s aggressively and impulsively rather than cooperative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tantly seeks atten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or conversation skil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know how to reward other peers and adults social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</a:rPr>
              <a:t>Behavioral Deficits</a:t>
            </a: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ademics and Schoo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lly behind in academic basics, particularly re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s difficulty acquiring new academic inform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u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ntisocial-Aggressive Behavior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gression/violence used to control others through coer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 child resorting to tantrum in order to get parents to buy them something in a st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Noncomplianc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using to do what is reques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most common childhood behavior proble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gnoring requests of ad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laying, passively resisting, arguing, or giving excuses for not doing 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revalenc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ys more likely diagnosed as having conduct disorder than are gir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es exhibit more aggression, stealing, vandalism, fire setting, and school-related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males display more lying, substance abuse, running away and prostit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ause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general ca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ological causes including genetic inheri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mily factors such as child-rearing and disciplinary pract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ing by parents, peers, or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D/R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youtube.com/watch?v=g2-Re_Fl_L4&amp;feature=re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sychodynamic therapy – not shown to be eff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tharsis – not shown to be effective in reducing agg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learning and behavioral approaches – some programs have been effective, although they require specific targeting of behaviors for inter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athways to Juvenile Delinquenc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lescent violent criminality (the aggressive versatile pat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nviolent 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llicit drug use 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erms Commonly Used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so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sition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ly Maladjus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order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inqu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Oppositional Defiant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with ODD exhibit recurrent pattern of negativistic, defiant, disobedient, and hostile behavior toward authority fig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youtube.com/watch?v=EkJtcO8t_3E&amp;feature=rel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nduct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serious than OD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havior violates the rights of others, destroys property, persistently violates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ad label used to identify a number of aversive and socially disruptive behaviors (going against societal norm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nduct Disorder (Cont.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hood-onset conduct dis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before age 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s early characteristics of physical aggression, disturbed peer relationships, and early oppositional or noncompliant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lescent-onse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after age 10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t displays of aggressive behavior and to have disturbed peer re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Characteristics of Conduct-disordered Children (DSM-IV-TR)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gression to People and Anim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ten bullies, threatens, or intimidates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ten initiates physical figh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used a weapon that can cause serious ha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been physically cruel to peo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been physically cruel to anim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stolen while confronting a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forced someone into sexual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nduct Disorder (cont.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truction of Proper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deliberately engaged in fire setting with the intention of causing serious dam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deliberately destroyed others’ prop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</a:rPr>
              <a:t>Behavioral Excesses</a:t>
            </a: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819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429000" y="1905120"/>
            <a:ext cx="5029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hysically attacks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rbally Abus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troys 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ts fi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ndaliz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uel to anim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vengef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reaks established ru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 not follow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g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 the opposite of what is reques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</a:rPr>
              <a:t>Behavioral Deficits</a:t>
            </a: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al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ws little remorse for destructive behav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ears to have no consc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cks concern for feelings of ot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3:59:31Z</dcterms:created>
  <dc:creator>DMONEYPENNY</dc:creator>
  <dc:description/>
  <dc:language>en-US</dc:language>
  <cp:lastModifiedBy>dshea</cp:lastModifiedBy>
  <dcterms:modified xsi:type="dcterms:W3CDTF">2012-06-13T19:28:47Z</dcterms:modified>
  <cp:revision>10</cp:revision>
  <dc:subject/>
  <dc:title>Chapter 10</dc:title>
</cp:coreProperties>
</file>