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94F6-D099-4864-81A0-93C08EC07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8FC7-E919-4232-BEBA-A76A842E6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77D2-8FDA-4AC1-9EF4-C618D89E7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B2E8-F600-46FD-BC06-9F62B0C6E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F610-5B2A-43EF-A10B-41AA94890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C028-FDED-4A70-A669-7D2919B4B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B79A-488A-486A-A576-0D5F52A6F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3103-54E6-4491-AD83-8D78DB138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037D-1BEC-4FC2-8293-31595A4E3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4D89-98B0-40C2-8577-D0E26B91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8130-7ABF-4139-879C-6DFC8F18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9D28-EC60-49B9-B9FE-25E8488F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8CA28-AA68-45D3-BEC2-B9D7410F18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0" y="1600200"/>
            <a:ext cx="60958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g2-Re_Fl_L4&amp;feature=related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EkJtcO8t_3E&amp;feature=related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Chapter 10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duct Disorder and Related Condi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. Diane Shea, Ph.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Times New Roman"/>
              </a:rPr>
              <a:t>Behavioral Deficits</a:t>
            </a:r>
            <a:endParaRPr b="0" lang="en-US" sz="2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ial Behavi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960" y="18284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as few frien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cks affection or bon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as few problem-solving skil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ts aggressively and impulsively rather than cooperative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stantly seeks atten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or conversation skil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oesn’t know how to reward other peers and adults social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Times New Roman"/>
              </a:rPr>
              <a:t>Behavioral Deficits</a:t>
            </a:r>
            <a:endParaRPr b="0" lang="en-US" sz="2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ademics and Schoo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960" y="18284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erally behind in academic basics, particularly rea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s difficulty acquiring new academic inform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ua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Antisocial-Aggressive Behavior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ggression/violence used to control others through coerc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ple:  child resorting to tantrum in order to get parents to buy them something in a st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Noncompliance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using to do what is reques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e of most common childhood behavior problem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gnoring requests of adul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laying, passively resisting, arguing, or giving excuses for not doing 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Prevalence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ys more likely diagnosed as having conduct disorder than are gir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les exhibit more aggression, stealing, vandalism, fire setting, and school-related probl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males display more lying, substance abuse, running away and prostit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Cause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ee general cau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ological causes including genetic inheri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mily factors such as child-rearing and disciplinary pract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eling by parents, peers, or oth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D/R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ww.youtube.com/watch?v=g2-Re_Fl_L4&amp;feature=rel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Treatment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sychodynamic therapy – not shown to be eff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tharsis – not shown to be effective in reducing aggr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cial learning and behavioral approaches – some programs have been effective, although they require specific targeting of behaviors for interven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Pathways to Juvenile Delinquency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olescent violent criminality (the aggressive versatile path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nonviolent p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llicit drug use p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Terms Commonly Used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tisoc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ggress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position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cially Maladjus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order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linqu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Oppositional Defiant Disorder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ildren with ODD exhibit recurrent pattern of negativistic, defiant, disobedient, and hostile behavior toward authority fig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ww.youtube.com/watch?v=EkJtcO8t_3E&amp;feature=rel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Conduct Disorder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serious than OD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havior violates the rights of others, destroys property, persistently violates ru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oad label used to identify a number of aversive and socially disruptive behaviors (going against societal norms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Conduct Disorder (Cont.)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ildhood-onset conduct disor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ccurs before age 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ws early characteristics of physical aggression, disturbed peer relationships, and early oppositional or noncompliant behav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olescent-onse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ccurs after age 10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t displays of aggressive behavior and to have disturbed peer rel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Characteristics of Conduct-disordered Children (DSM-IV-TR)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ggression to People and Anim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ten bullies, threatens, or intimidates oth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ten initiates physical figh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s used a weapon that can cause serious ha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s been physically cruel to peo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s been physically cruel to anim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s stolen while confronting a victi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s forced someone into sexual acti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Conduct Disorder (cont.)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truction of Proper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s deliberately engaged in fire setting with the intention of causing serious dam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s deliberately destroyed others’ proper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Times New Roman"/>
              </a:rPr>
              <a:t>Behavioral Excesses</a:t>
            </a:r>
            <a:endParaRPr b="0" lang="en-US" sz="2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819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gre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ncompli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429000" y="1905120"/>
            <a:ext cx="5029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hysically attacks oth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erbally Abus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stroys proper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ts fi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andaliz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uel to anima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vengefu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reaks established ru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oes not follow comman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rg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oes the opposite of what is reques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Times New Roman"/>
              </a:rPr>
              <a:t>Behavioral Deficits</a:t>
            </a:r>
            <a:endParaRPr b="0" lang="en-US" sz="2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al Behav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ows little remorse for destructive behavi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ears to have no consci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cks concern for feelings of oth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1T03:59:31Z</dcterms:created>
  <dc:creator>DMONEYPENNY</dc:creator>
  <dc:description/>
  <dc:language>en-US</dc:language>
  <cp:lastModifiedBy>dshea</cp:lastModifiedBy>
  <dcterms:modified xsi:type="dcterms:W3CDTF">2012-06-13T19:28:47Z</dcterms:modified>
  <cp:revision>10</cp:revision>
  <dc:subject/>
  <dc:title>Chapter 10</dc:title>
</cp:coreProperties>
</file>