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4782-E5D5-4983-93E5-82F8259C3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CDBA-9849-4549-9566-B4D4E886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219B-A30B-4EA6-AFDC-9D8255994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62C0-F7C2-4E19-ADD0-A6432945B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CF92-395A-42F9-A348-B4B252AB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518C-5E64-4EDB-A930-73A7F169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462C-F774-4931-93F1-2BDB00965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91C8-1AC5-49AE-9431-1E490BFEA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2E42-CC0D-4118-A752-19B4313A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0802-6836-49E4-AC71-EA4F6941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76CF-BDDF-4823-A9A3-426857EC2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A7A2-94E3-49AF-A559-375D3B40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54229-73E1-4D85-8D7A-06FD4FACD1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0" y="1600200"/>
            <a:ext cx="60958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g2-Re_Fl_L4&amp;feature=related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EkJtcO8t_3E&amp;feature=related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hapter 10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duct Disorder and Related Cond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. Diane Shea, Ph.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Times New Roman"/>
              </a:rPr>
              <a:t>Behavioral Deficits</a:t>
            </a:r>
            <a:endParaRPr b="0" lang="en-US" sz="2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ial Behavi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96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as few frie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cks affection or bon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as few problem-solving skil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cts aggressively and impulsively rather than cooperative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tantly seeks atten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or conversation skil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esn’t know how to reward other peers and adults social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Times New Roman"/>
              </a:rPr>
              <a:t>Behavioral Deficits</a:t>
            </a:r>
            <a:endParaRPr b="0" lang="en-US" sz="2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ademics and School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960" y="182844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erally behind in academic basics, particularly rea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s difficulty acquiring new academic informati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ua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Antisocial-Aggressive Behavior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gression/violence used to control others through coerc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:  child resorting to tantrum in order to get parents to buy them something in a st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Noncompliance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using to do what is reques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of most common childhood behavior problem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gnoring requests of adul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laying, passively resisting, arguing, or giving excuses for not doing 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revalence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oys more likely diagnosed as having conduct disorder than are gir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les exhibit more aggression, stealing, vandalism, fire setting, and school-related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emales display more lying, substance abuse, running away and prostit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ause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ree general cau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ological causes including genetic inherit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mily factors such as child-rearing and disciplinary practi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eling by parents, peers, or oth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D/R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youtube.com/watch?v=g2-Re_Fl_L4&amp;feature=rel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Treatmen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sychodynamic therapy – not shown to be eff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tharsis – not shown to be effective in reducing aggr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cial learning and behavioral approaches – some programs have been effective, although they require specific targeting of behaviors for interven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athways to Juvenile Delinquency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olescent violent criminality (the aggressive versatile path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onviolent p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illicit drug use p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Terms Commonly Used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tisoc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gress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ppositional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cially Maladjust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order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linqu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Oppositional Defiant Disorde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ldren with ODD exhibit recurrent pattern of negativistic, defiant, disobedient, and hostile behavior toward authority fig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youtube.com/watch?v=EkJtcO8t_3E&amp;feature=rel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onduct Disorde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re serious than OD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havior violates the rights of others, destroys property, persistently violates ru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oad label used to identify a number of aversive and socially disruptive behaviors (going against societal norms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onduct Disorder (Cont.)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ldhood-onset conduct disord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s before age 1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ws early characteristics of physical aggression, disturbed peer relationships, and early oppositional or noncompliant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olescent-onse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s after age 10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t displays of aggressive behavior and to have disturbed peer rela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Times New Roman"/>
              </a:rPr>
              <a:t>Characteristics of Conduct-disordered Children (DSM-IV-TR)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ggression to People and Anim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ten bullies, threatens, or intimidates oth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ten initiates physical figh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used a weapon that can cause serious ha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been physically cruel to peop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been physically cruel to anim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stolen while confronting a victi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forced someone into sexual ac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onduct Disorder (cont.)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truction of Proper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deliberately engaged in fire setting with the intention of causing serious dam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s deliberately destroyed others’ proper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Times New Roman"/>
              </a:rPr>
              <a:t>Behavioral Excesses</a:t>
            </a:r>
            <a:endParaRPr b="0" lang="en-US" sz="2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819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gres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ncompli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429000" y="1905120"/>
            <a:ext cx="5029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hysically attacks oth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erbally Abusiv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stroys proper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ts fi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andaliz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uel to anima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vengefu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reaks established ru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es not follow comm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rgu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es the opposite of what is reques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00"/>
                </a:solidFill>
                <a:latin typeface="Times New Roman"/>
              </a:rPr>
              <a:t>Behavioral Deficits</a:t>
            </a:r>
            <a:endParaRPr b="0" lang="en-US" sz="25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ral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ows little remorse for destructive behavi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ears to have no conscie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acks concern for feelings of oth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1T03:59:31Z</dcterms:created>
  <dc:creator>DMONEYPENNY</dc:creator>
  <dc:description/>
  <dc:language>en-US</dc:language>
  <cp:lastModifiedBy>dshea</cp:lastModifiedBy>
  <dcterms:modified xsi:type="dcterms:W3CDTF">2012-06-13T19:28:47Z</dcterms:modified>
  <cp:revision>10</cp:revision>
  <dc:subject/>
  <dc:title>Chapter 10</dc:title>
</cp:coreProperties>
</file>