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C0E12F-7F88-46A8-ACE6-86DB17911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2966A-7871-4D2E-A293-5602354D7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DB1396-1A1E-4F28-BE82-4485610428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A909FD-3FE4-4780-A87A-3D02CD430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7C3F0-D801-442E-B20F-EE819CC407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8F01A-1DF9-4250-AEF0-A9DA33F2D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87068-F474-4251-A6A3-FCFD524E2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E7376-3F17-43F2-BFD5-FEB7C5AD91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6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23085-6D6C-4221-883F-21861537F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EB3A1-1A90-40AF-BEFD-7654F0DD7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82E998-4378-43F1-B01B-50B9ADFBC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EE944-EC2D-4FDB-A619-D3B86BA658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Formata Medium"/>
              </a:rPr>
              <a:t>Click to edit the title text format</a:t>
            </a:r>
            <a:endParaRPr b="1" lang="en-US" sz="3800" spc="-1" strike="noStrike">
              <a:solidFill>
                <a:srgbClr val="ffffff"/>
              </a:solidFill>
              <a:latin typeface="Formata Medium"/>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6000"/>
              </a:lnSpc>
              <a:spcBef>
                <a:spcPts val="2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Click to edit the outline text format</a:t>
            </a:r>
            <a:endParaRPr b="1" i="1" lang="en-US" sz="3200" spc="-1" strike="noStrike">
              <a:solidFill>
                <a:srgbClr val="ffffff"/>
              </a:solidFill>
              <a:latin typeface="Formata Medium"/>
            </a:endParaRPr>
          </a:p>
          <a:p>
            <a:pPr lvl="1" marL="743040" indent="-285840" algn="just">
              <a:lnSpc>
                <a:spcPct val="96000"/>
              </a:lnSpc>
              <a:spcBef>
                <a:spcPts val="2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econd Outline Level</a:t>
            </a:r>
            <a:endParaRPr b="1" i="1" lang="en-US" sz="3200" spc="-1" strike="noStrike">
              <a:solidFill>
                <a:srgbClr val="ffffff"/>
              </a:solidFill>
              <a:latin typeface="Formata Medium"/>
            </a:endParaRPr>
          </a:p>
          <a:p>
            <a:pPr lvl="2" marL="11430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Third Outline Level</a:t>
            </a:r>
            <a:endParaRPr b="1" i="1" lang="en-US" sz="3200" spc="-1" strike="noStrike">
              <a:solidFill>
                <a:srgbClr val="ffffff"/>
              </a:solidFill>
              <a:latin typeface="Formata Medium"/>
            </a:endParaRPr>
          </a:p>
          <a:p>
            <a:pPr lvl="3" marL="1600200" indent="-228600" algn="just">
              <a:lnSpc>
                <a:spcPct val="96000"/>
              </a:lnSpc>
              <a:spcBef>
                <a:spcPts val="201"/>
              </a:spcBef>
              <a:spcAft>
                <a:spcPts val="601"/>
              </a:spcAft>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Fourth Outline Level</a:t>
            </a:r>
            <a:endParaRPr b="1" i="1" lang="en-US" sz="3200" spc="-1" strike="noStrike">
              <a:solidFill>
                <a:srgbClr val="ffffff"/>
              </a:solidFill>
              <a:latin typeface="Formata Medium"/>
            </a:endParaRPr>
          </a:p>
          <a:p>
            <a:pPr lvl="4"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Fifth Outline Level</a:t>
            </a:r>
            <a:endParaRPr b="1" i="1" lang="en-US" sz="3200" spc="-1" strike="noStrike">
              <a:solidFill>
                <a:srgbClr val="ffffff"/>
              </a:solidFill>
              <a:latin typeface="Formata Medium"/>
            </a:endParaRPr>
          </a:p>
          <a:p>
            <a:pPr lvl="5"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ixth Outline Level</a:t>
            </a:r>
            <a:endParaRPr b="1" i="1" lang="en-US" sz="3200" spc="-1" strike="noStrike">
              <a:solidFill>
                <a:srgbClr val="ffffff"/>
              </a:solidFill>
              <a:latin typeface="Formata Medium"/>
            </a:endParaRPr>
          </a:p>
          <a:p>
            <a:pPr lvl="6"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eventh Outline Level</a:t>
            </a:r>
            <a:endParaRPr b="1" i="1" lang="en-US" sz="3200" spc="-1" strike="noStrike">
              <a:solidFill>
                <a:srgbClr val="ffffff"/>
              </a:solidFill>
              <a:latin typeface="Formata Medium"/>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86A14E-F667-4444-B6F3-97FAE5DBE34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0" y="1600200"/>
            <a:ext cx="6095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hapter 12</a:t>
            </a:r>
            <a:endParaRPr b="1" lang="en-US" sz="3800" spc="-1" strike="noStrike">
              <a:solidFill>
                <a:srgbClr val="ffffff"/>
              </a:solidFill>
              <a:latin typeface="Formata Medium"/>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Retard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ng Mental Retardation</a:t>
            </a:r>
            <a:endParaRPr b="1" lang="en-US" sz="3800" spc="-1" strike="noStrike">
              <a:solidFill>
                <a:srgbClr val="ffffff"/>
              </a:solidFill>
              <a:latin typeface="Formata Medium"/>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Association on Mental Retardation definition</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al retardation refers to substantial limitations in present functioning.  It is characterized by significantly sub average intellectual functioning, existing concurrently with related limitations in two or more of the following applicable adaptive skill areas: communication, self-care, home living, social skills, community use, self-direction, health and safety, functional academics, leisure, and work.</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departs from earlier efforts in several way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important difference involves the manner of viewing intelligence measure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AMR definition focuses on intellectual functioning primarily at the time of diagnosis and mainly considers an individual’s adaptive skills and needed environmental supports for classification and program planning</a:t>
            </a:r>
            <a:endParaRPr b="1" i="1" lang="en-US" sz="2800" spc="-1" strike="noStrike">
              <a:solidFill>
                <a:srgbClr val="ffffff"/>
              </a:solidFill>
              <a:latin typeface="Formata Medium"/>
            </a:endParaRPr>
          </a:p>
          <a:p>
            <a:pPr marL="343080" indent="0" algn="just">
              <a:lnSpc>
                <a:spcPct val="8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Adaptive behavior</a:t>
            </a:r>
            <a:endParaRPr b="1" lang="en-US" sz="3800" spc="-1" strike="noStrike">
              <a:solidFill>
                <a:srgbClr val="ffffff"/>
              </a:solidFill>
              <a:latin typeface="Formata Medium"/>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the conceptualization of mental retardation for over 35 years </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scribing and Classifying Mental Retardation </a:t>
            </a:r>
            <a:endParaRPr b="1" lang="en-US" sz="3800" spc="-1" strike="noStrike">
              <a:solidFill>
                <a:srgbClr val="ffffff"/>
              </a:solidFill>
              <a:latin typeface="Formata Medium"/>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DSM-IV-TR severity classifications for mental retard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d – IQ of 50-55 to about 70</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rate – IQ of 35-40 to 50-55</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e – IQ of 20-25 to 35-40</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ound – IQ below 20 or 25</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specified – presumption of mental retardation but intelligence not testable with standardized instruments </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rm mental retardation  extremely general label that covers a heterogeneous set of conditions with different developmental paths and cause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ly, the characteristic most typically associated with mental retardation has been reduced intellectual functioning</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severity of the intellectual impairment has long been a common means of describing and classifying those with retardation</a:t>
            </a: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VALENCE OF MENTAL RETARDATION</a:t>
            </a:r>
            <a:endParaRPr b="1" lang="en-US" sz="3800" spc="-1" strike="noStrike">
              <a:solidFill>
                <a:srgbClr val="ffffff"/>
              </a:solidFill>
              <a:latin typeface="Formata Medium"/>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estimates of prevalence for mental retardation</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nged from 1% to 3% of general population</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11% of all children with disabilities in US public schools, and what does this mean in terms of numbers of individuals receiving services under IDEA?</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al Factors Explain how development plays a role in mental retardation</a:t>
            </a:r>
            <a:endParaRPr b="1" lang="en-US" sz="2400" spc="-1" strike="noStrike">
              <a:solidFill>
                <a:srgbClr val="ffffff"/>
              </a:solidFill>
              <a:latin typeface="Formata Medium"/>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gnancy: unborn baby develops rapidly and is vulnerable to diseases, maternal nutritional status, and accidents</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bella</a:t>
            </a:r>
            <a:endParaRPr b="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cy/Early childhood: dependent on his/her environment for nutrition, oxygen, protection from disease and trauma</a:t>
            </a:r>
            <a:endParaRPr b="1" i="1" lang="en-US" sz="3200" spc="-1" strike="noStrike">
              <a:solidFill>
                <a:srgbClr val="ffffff"/>
              </a:solidFill>
              <a:latin typeface="Formata Medium"/>
            </a:endParaRPr>
          </a:p>
          <a:p>
            <a:pPr lvl="1" marL="74304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bolic Disorders: Child susceptible in prenatal and early childhood</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a:t>
            </a:r>
            <a:endParaRPr b="1" lang="en-US" sz="3800" spc="-1" strike="noStrike">
              <a:solidFill>
                <a:srgbClr val="ffffff"/>
              </a:solidFill>
              <a:latin typeface="Formata Medium"/>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uses of mental retardation are many and varie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ases, pathology of a physiological or biological nature can be identifie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s many as 30–40% of those with mental retardation, causation is unknown</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retardation recognized perhaps longer than any other currently studied in psychology</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ritten documents from ancient Egypt made oblique reference to the condition as early as about 1500 BC</a:t>
            </a:r>
            <a:endParaRPr b="1" i="1" lang="en-US" sz="32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often viewed as part of mental illness</a:t>
            </a:r>
            <a:endParaRPr b="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vely comm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natal and Neonatal Causation</a:t>
            </a:r>
            <a:endParaRPr b="1" lang="en-US" sz="3800" spc="-1" strike="noStrike">
              <a:solidFill>
                <a:srgbClr val="ffffff"/>
              </a:solidFill>
              <a:latin typeface="Formata Medium"/>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that may cause mental retardation during the prenatal and neonatal periods</a:t>
            </a:r>
            <a:endParaRPr b="1" i="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 Factor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nal Characteristic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defect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th problems due to delivery positions or atypical labor period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birth weight and inadequate gestational age</a:t>
            </a:r>
            <a:endParaRPr b="1" lang="en-US" sz="24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wn syndrome </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types of Down syndrome, each resulting from a different type of chromosomal error.</a:t>
            </a:r>
            <a:endParaRPr b="1" lang="en-US" sz="2800" spc="-1" strike="noStrike">
              <a:solidFill>
                <a:srgbClr val="ffffff"/>
              </a:solidFill>
              <a:latin typeface="Formata Medium"/>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disjunction</a:t>
            </a:r>
            <a:endParaRPr b="1" lang="en-US" sz="2400" spc="-1" strike="noStrike">
              <a:solidFill>
                <a:srgbClr val="ffffff"/>
              </a:solidFill>
              <a:latin typeface="Times New Roman"/>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location</a:t>
            </a:r>
            <a:endParaRPr b="1" lang="en-US" sz="2400" spc="-1" strike="noStrike">
              <a:solidFill>
                <a:srgbClr val="ffffff"/>
              </a:solidFill>
              <a:latin typeface="Times New Roman"/>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aicism</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gile X syndrome </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 derives from the fact that the X chromosome of an affected individual will show a fragile spot when grown in an experimental culture</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enylketonuria (PKU), an inherited metabolic disorder that occurs in about 1 of every 10,000 live birth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ffected infants lack the ability to process phenylalanine, severely damages the central nervous system</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ple syrup urine disease </a:t>
            </a:r>
            <a:endParaRPr b="1" i="1" lang="en-US" sz="28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ected infants tend to excrete urine that has a distinctive odor of maple syrup</a:t>
            </a:r>
            <a:endParaRPr b="1" lang="en-US" sz="24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cause severe intellectual impairment, although more often than not the condition is fatal</a:t>
            </a:r>
            <a:endParaRPr b="1" lang="en-US" sz="24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se of this condition has been linked to metabolic deficiencies of three separate amino acids causing extreme CNS damage in the newborn</a:t>
            </a:r>
            <a:endParaRPr b="1" lang="en-US" sz="24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treated maple syrup urine disease is fatal; few untreated infants survive more than a few week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actosemia involves difficulty in carbohydrate (sugar) metabolism, rather than amino acid metabolism</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s with galactosemia are unable to properly process certain sugar components in milk</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are toxic damage to the infant’s liver, brain, and other tissues</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all genetic disorders are metabolic in nature</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me sex-related (occurs in the sex chromosome portion of the genetic material)</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genetic disorders may produce a variety of physical and functional manifestations</a:t>
            </a:r>
            <a:endParaRPr b="1" i="1" lang="en-US" sz="32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aternal Characteristics</a:t>
            </a:r>
            <a:endParaRPr b="1" lang="en-US" sz="3800" spc="-1" strike="noStrike">
              <a:solidFill>
                <a:srgbClr val="ffffff"/>
              </a:solidFill>
              <a:latin typeface="Formata Medium"/>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nal age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equate nutrition may be one of the most important factors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h problems become especially severe when expectant mothers do not have access to health care advice or to prenatal medical care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specific relationship remains unclear</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the unborn fetus inadequately nourished regardless of the mother’s nutritional statu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yroid deficiency, chronic diabetes, and anemia may substantially affect the development of the fetus and result in premature birth</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maturity substantially increases the possibility of intellectual impairment</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nal diabetes is always considered to create some degree of risk for the baby</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ous damage to the fetus may be caused if mother and fetus have incompatible blood types. (Rh factor)</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variety of maternal infections </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rman measles (rubella) is perhaps the viral infection most widely recognized as causing mental retardation.</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yphilis </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xoplasmosi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s, drugs, alcohol, and smoking </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ossible consequence of maternal alcohol abuse during pregnancy is fetal alcohol syndrome (FAS) or the less severe fetal alcohol effects (FAE)</a:t>
            </a:r>
            <a:endParaRPr b="1" lang="en-US" sz="2800" spc="-1" strike="noStrike">
              <a:solidFill>
                <a:srgbClr val="ffffff"/>
              </a:solidFill>
              <a:latin typeface="Formata Medium"/>
            </a:endParaRPr>
          </a:p>
          <a:p>
            <a:pPr marL="34308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ng Mental Retardation  </a:t>
            </a:r>
            <a:endParaRPr b="1" lang="en-US" sz="3800" spc="-1" strike="noStrike">
              <a:solidFill>
                <a:srgbClr val="ffffff"/>
              </a:solidFill>
              <a:latin typeface="Formata Medium"/>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linical Defects</a:t>
            </a:r>
            <a:endParaRPr b="1" lang="en-US" sz="3800" spc="-1" strike="noStrike">
              <a:solidFill>
                <a:srgbClr val="ffffff"/>
              </a:solidFill>
              <a:latin typeface="Formata Medium"/>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encephaly occurs early and results in incomplete development of the forebrain portion of cerebral tissue </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per closure at other parts of the neural tube may also cause damage to the central nervous system in the form of a condition known as spina bifida</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cephalus is a clinical defect that is sometimes related to improper closure of the neural tube</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Atypical Birth</a:t>
            </a:r>
            <a:endParaRPr b="1" lang="en-US" sz="3800" spc="-1" strike="noStrike">
              <a:solidFill>
                <a:srgbClr val="ffffff"/>
              </a:solidFill>
              <a:latin typeface="Formata Medium"/>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rth is stressful to mother and infant alike</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thinking focuses much more narrowly on the physical trauma of atypical birth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osition of the fetus in utero</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ther fetal positions substantially raise the probability of damage</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ech presentation Several difficulties may result from a breech birth</a:t>
            </a:r>
            <a:endParaRPr b="1" lang="en-US" sz="2400" spc="-1" strike="noStrike">
              <a:solidFill>
                <a:srgbClr val="ffffff"/>
              </a:solidFill>
              <a:latin typeface="Formata Medium"/>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place a great deal of stress on the head of the baby</a:t>
            </a:r>
            <a:endParaRPr b="1" lang="en-US" sz="2000" spc="-1" strike="noStrike">
              <a:solidFill>
                <a:srgbClr val="ffffff"/>
              </a:solidFill>
              <a:latin typeface="Times New Roman"/>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eonatal Characteristics</a:t>
            </a:r>
            <a:endParaRPr b="1" lang="en-US" sz="3800" spc="-1" strike="noStrike">
              <a:solidFill>
                <a:srgbClr val="ffffff"/>
              </a:solidFill>
              <a:latin typeface="Formata Medium"/>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neonatal characteristics highly related to a child’s risk of developing retardation: birth weight and gestational age</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stational age refers to the age of a fetus calculated from the time of conceptio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w birth weight and inadequate gestational age at birth (prematurity) are perhaps the most common neonatal risk factors </a:t>
            </a:r>
            <a:endParaRPr b="1" i="1" lang="en-US" sz="28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ation during Infancy and Childhood</a:t>
            </a:r>
            <a:endParaRPr b="1" lang="en-US" sz="3800" spc="-1" strike="noStrike">
              <a:solidFill>
                <a:srgbClr val="ffffff"/>
              </a:solidFill>
              <a:latin typeface="Formata Medium"/>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tic disorders that cause developmental damage to the neurological system</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social or environmental factors, where adequate stimulation to promote intellectual and social growth does not exist</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children with mental retardation</a:t>
            </a:r>
            <a:endParaRPr b="1" lang="en-US" sz="3800" spc="-1" strike="noStrike">
              <a:solidFill>
                <a:srgbClr val="ffffff"/>
              </a:solidFill>
              <a:latin typeface="Formata Medium"/>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types of prenatal intervention</a:t>
            </a:r>
            <a:endParaRPr b="1" i="1" lang="en-US" sz="32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osomal analysis for Down Syndrome or other genetic abnormalities may result decision to abort fetus </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for Rh blood incompatibility between mother and fetus may prevent fetal damage.</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atal identification of a PKU problem may result in maternal dietary restrictions</a:t>
            </a:r>
            <a:endParaRPr b="1" lang="en-US" sz="2800" spc="-1" strike="noStrike">
              <a:solidFill>
                <a:srgbClr val="ffffff"/>
              </a:solidFill>
              <a:latin typeface="Formata Medium"/>
            </a:endParaRPr>
          </a:p>
          <a:p>
            <a:pPr lvl="1" marL="74304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natal  Intervention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ant stimulation programs provide positive developmental environment for very young children who are at risk because of prenatal or later environmental circumstances</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fic instruction for young children in language skills appears promising and probably should be implemented as early as possible</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sion of young children of school age in classrooms with non disabled peers</a:t>
            </a:r>
            <a:endParaRPr b="1" lang="en-US" sz="24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vention of Mental Retardation</a:t>
            </a:r>
            <a:endParaRPr b="1" lang="en-US" sz="3800" spc="-1" strike="noStrike">
              <a:solidFill>
                <a:srgbClr val="ffffff"/>
              </a:solidFill>
              <a:latin typeface="Formata Medium"/>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cause of the varied causes, prevention efforts have been extremely diverse, and some approaches have involved extremely controversial method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ases, preventing mental retardation requires courses of action that are unacceptable to some segments of the popul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lose relationship between medical personnel and new parents is important in the prevention of mental retardatio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KU screening is now routinely undertaken when a baby is bor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atal screening and diagnosis can also lead to preventive intervention that may be highly controversial from a moral and ethical perspective</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4 assumptions outlined by AAMR</a:t>
            </a:r>
            <a:endParaRPr b="1" lang="en-US" sz="3800" spc="-1" strike="noStrike">
              <a:solidFill>
                <a:srgbClr val="ffffff"/>
              </a:solidFill>
              <a:latin typeface="Formata Medium"/>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id Assessment considers cultural and linguistic diversity </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of limitations in adaptive skills occurs in context of community environments</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daptive limitations can coexist with strengths</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appropriate support, life functioning will generally improve</a:t>
            </a:r>
            <a:endParaRPr b="1" i="1" lang="en-US" sz="28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the ability to understand and communicate information</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care skills such as toileting, eating, hygien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 living, including interchange wit other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skills, including interchange with others</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ty Use, including shopping and obtaining services and use of community resource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direction, such as making choices and following a schedul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lth and safety, including eating and basic first ai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ctional academics, skills related to learning in school that have direct application in lif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isure, developing a variety of leisure and recreational interest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the ability to maintain part- or full-time employment</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6:10Z</dcterms:created>
  <dc:creator>DMONEYPENNY</dc:creator>
  <dc:description/>
  <dc:language>en-US</dc:language>
  <cp:lastModifiedBy>dshea</cp:lastModifiedBy>
  <dcterms:modified xsi:type="dcterms:W3CDTF">2010-05-04T15:41:43Z</dcterms:modified>
  <cp:revision>6</cp:revision>
  <dc:subject/>
  <dc:title>Chapter 12</dc:title>
</cp:coreProperties>
</file>