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9E4FC-C2B0-4202-ADB6-3D69B7021B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Formata Medium"/>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9D924-A344-4193-BB61-01AFDF18C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Formata Medium"/>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4B0171-E538-4F49-87B2-672CD56BAC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Formata Medium"/>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3D902F-B902-4E43-8764-93036513E5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Formata Medium"/>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96000"/>
              </a:lnSpc>
              <a:spcBef>
                <a:spcPts val="2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E30C73-1448-407C-861B-A9C807CCE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Formata Medium"/>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801F9-0405-4590-984A-46E637D86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Formata Medium"/>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E88D6-C602-4151-9236-A475E236A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Formata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1D992-603A-4B11-B2C2-84997EC3C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lnSpc>
                <a:spcPct val="96000"/>
              </a:lnSpc>
              <a:spcBef>
                <a:spcPts val="2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D040E-2A56-4BA3-8345-1B0DEA165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Formata Medium"/>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248E0-6AED-4671-B84E-FFFCDFB066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Formata Medium"/>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77B55B-DDA7-4314-B1DB-1E8D7357AB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Formata Medium"/>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just">
              <a:lnSpc>
                <a:spcPct val="96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CB63C-3AF9-40D1-9AEE-EC03673E1F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Formata Medium"/>
              </a:rPr>
              <a:t>Click to edit the title text format</a:t>
            </a:r>
            <a:endParaRPr b="1" lang="en-US" sz="3800" spc="-1" strike="noStrike">
              <a:solidFill>
                <a:srgbClr val="ffffff"/>
              </a:solidFill>
              <a:latin typeface="Formata Medium"/>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6000"/>
              </a:lnSpc>
              <a:spcBef>
                <a:spcPts val="2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Formata Medium"/>
              </a:rPr>
              <a:t>Click to edit the outline text format</a:t>
            </a:r>
            <a:endParaRPr b="1" i="1" lang="en-US" sz="3200" spc="-1" strike="noStrike">
              <a:solidFill>
                <a:srgbClr val="ffffff"/>
              </a:solidFill>
              <a:latin typeface="Formata Medium"/>
            </a:endParaRPr>
          </a:p>
          <a:p>
            <a:pPr lvl="1" marL="743040" indent="-285840" algn="just">
              <a:lnSpc>
                <a:spcPct val="96000"/>
              </a:lnSpc>
              <a:spcBef>
                <a:spcPts val="2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Formata Medium"/>
              </a:rPr>
              <a:t>Second Outline Level</a:t>
            </a:r>
            <a:endParaRPr b="1" i="1" lang="en-US" sz="3200" spc="-1" strike="noStrike">
              <a:solidFill>
                <a:srgbClr val="ffffff"/>
              </a:solidFill>
              <a:latin typeface="Formata Medium"/>
            </a:endParaRPr>
          </a:p>
          <a:p>
            <a:pPr lvl="2" marL="1143000" indent="-228600" algn="just">
              <a:lnSpc>
                <a:spcPct val="96000"/>
              </a:lnSpc>
              <a:spcBef>
                <a:spcPts val="2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Formata Medium"/>
              </a:rPr>
              <a:t>Third Outline Level</a:t>
            </a:r>
            <a:endParaRPr b="1" i="1" lang="en-US" sz="3200" spc="-1" strike="noStrike">
              <a:solidFill>
                <a:srgbClr val="ffffff"/>
              </a:solidFill>
              <a:latin typeface="Formata Medium"/>
            </a:endParaRPr>
          </a:p>
          <a:p>
            <a:pPr lvl="3" marL="1600200" indent="-228600" algn="just">
              <a:lnSpc>
                <a:spcPct val="96000"/>
              </a:lnSpc>
              <a:spcBef>
                <a:spcPts val="201"/>
              </a:spcBef>
              <a:spcAft>
                <a:spcPts val="601"/>
              </a:spcAft>
              <a:buClr>
                <a:srgbClr val="ffffff"/>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Formata Medium"/>
              </a:rPr>
              <a:t>Fourth Outline Level</a:t>
            </a:r>
            <a:endParaRPr b="1" i="1" lang="en-US" sz="3200" spc="-1" strike="noStrike">
              <a:solidFill>
                <a:srgbClr val="ffffff"/>
              </a:solidFill>
              <a:latin typeface="Formata Medium"/>
            </a:endParaRPr>
          </a:p>
          <a:p>
            <a:pPr lvl="4" marL="2057400" indent="-228600" algn="just">
              <a:lnSpc>
                <a:spcPct val="96000"/>
              </a:lnSpc>
              <a:spcBef>
                <a:spcPts val="2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Formata Medium"/>
              </a:rPr>
              <a:t>Fifth Outline Level</a:t>
            </a:r>
            <a:endParaRPr b="1" i="1" lang="en-US" sz="3200" spc="-1" strike="noStrike">
              <a:solidFill>
                <a:srgbClr val="ffffff"/>
              </a:solidFill>
              <a:latin typeface="Formata Medium"/>
            </a:endParaRPr>
          </a:p>
          <a:p>
            <a:pPr lvl="5" marL="2057400" indent="-228600" algn="just">
              <a:lnSpc>
                <a:spcPct val="96000"/>
              </a:lnSpc>
              <a:spcBef>
                <a:spcPts val="2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Formata Medium"/>
              </a:rPr>
              <a:t>Sixth Outline Level</a:t>
            </a:r>
            <a:endParaRPr b="1" i="1" lang="en-US" sz="3200" spc="-1" strike="noStrike">
              <a:solidFill>
                <a:srgbClr val="ffffff"/>
              </a:solidFill>
              <a:latin typeface="Formata Medium"/>
            </a:endParaRPr>
          </a:p>
          <a:p>
            <a:pPr lvl="6" marL="2057400" indent="-228600" algn="just">
              <a:lnSpc>
                <a:spcPct val="96000"/>
              </a:lnSpc>
              <a:spcBef>
                <a:spcPts val="2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Formata Medium"/>
              </a:rPr>
              <a:t>Seventh Outline Level</a:t>
            </a:r>
            <a:endParaRPr b="1" i="1" lang="en-US" sz="3200" spc="-1" strike="noStrike">
              <a:solidFill>
                <a:srgbClr val="ffffff"/>
              </a:solidFill>
              <a:latin typeface="Formata Medium"/>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AC995-5F6D-4632-97D4-95476E92406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2286000" y="1600200"/>
            <a:ext cx="60958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Chapter 12</a:t>
            </a:r>
            <a:endParaRPr b="1" lang="en-US" sz="3800" spc="-1" strike="noStrike">
              <a:solidFill>
                <a:srgbClr val="ffffff"/>
              </a:solidFill>
              <a:latin typeface="Formata Medium"/>
            </a:endParaRPr>
          </a:p>
        </p:txBody>
      </p:sp>
      <p:sp>
        <p:nvSpPr>
          <p:cNvPr id="4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ntal Retardation</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Defining Mental Retardation</a:t>
            </a:r>
            <a:endParaRPr b="1" lang="en-US" sz="3800" spc="-1" strike="noStrike">
              <a:solidFill>
                <a:srgbClr val="ffffff"/>
              </a:solidFill>
              <a:latin typeface="Formata Medium"/>
            </a:endParaRPr>
          </a:p>
        </p:txBody>
      </p:sp>
      <p:sp>
        <p:nvSpPr>
          <p:cNvPr id="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merican Association on Mental Retardation definition</a:t>
            </a:r>
            <a:endParaRPr b="1" i="1" lang="en-US" sz="28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ental retardation refers to substantial limitations in present functioning.  It is characterized by significantly sub average intellectual functioning, existing concurrently with related limitations in two or more of the following applicable adaptive skill areas: communication, self-care, home living, social skills, community use, self-direction, health and safety, functional academics, leisure, and work.</a:t>
            </a:r>
            <a:endParaRPr b="1" lang="en-US" sz="24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1" i="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Formata Medium"/>
            </a:endParaRPr>
          </a:p>
        </p:txBody>
      </p:sp>
      <p:sp>
        <p:nvSpPr>
          <p:cNvPr id="6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finition departs from earlier efforts in several ways</a:t>
            </a:r>
            <a:endParaRPr b="1" i="1" lang="en-US" sz="28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important difference involves the manner of viewing intelligence measures</a:t>
            </a:r>
            <a:endParaRPr b="1" i="1" lang="en-US" sz="28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AMR definition focuses on intellectual functioning primarily at the time of diagnosis and mainly considers an individual’s adaptive skills and needed environmental supports for classification and program planning</a:t>
            </a:r>
            <a:endParaRPr b="1" i="1" lang="en-US" sz="2800" spc="-1" strike="noStrike">
              <a:solidFill>
                <a:srgbClr val="ffffff"/>
              </a:solidFill>
              <a:latin typeface="Formata Medium"/>
            </a:endParaRPr>
          </a:p>
          <a:p>
            <a:pPr marL="343080" indent="0" algn="just">
              <a:lnSpc>
                <a:spcPct val="86000"/>
              </a:lnSpc>
              <a:spcBef>
                <a:spcPts val="2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Adaptive behavior</a:t>
            </a:r>
            <a:endParaRPr b="1" lang="en-US" sz="3800" spc="-1" strike="noStrike">
              <a:solidFill>
                <a:srgbClr val="ffffff"/>
              </a:solidFill>
              <a:latin typeface="Formata Medium"/>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t of the conceptualization of mental retardation for over 35 years </a:t>
            </a:r>
            <a:endParaRPr b="1" i="1" lang="en-US" sz="3200" spc="-1" strike="noStrike">
              <a:solidFill>
                <a:srgbClr val="ffffff"/>
              </a:solidFill>
              <a:latin typeface="Formata Medium"/>
            </a:endParaRPr>
          </a:p>
          <a:p>
            <a:pPr marL="343080" indent="0">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Describing and Classifying Mental Retardation </a:t>
            </a:r>
            <a:endParaRPr b="1" lang="en-US" sz="3800" spc="-1" strike="noStrike">
              <a:solidFill>
                <a:srgbClr val="ffffff"/>
              </a:solidFill>
              <a:latin typeface="Formata Medium"/>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 DSM-IV-TR severity classifications for mental retardation</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ld – IQ of 50-55 to about 70</a:t>
            </a:r>
            <a:endParaRPr b="1" i="1" lang="en-US" sz="32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derate – IQ of 35-40 to 50-55</a:t>
            </a:r>
            <a:endParaRPr b="1" i="1" lang="en-US" sz="32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re – IQ of 20-25 to 35-40</a:t>
            </a:r>
            <a:endParaRPr b="1" i="1" lang="en-US" sz="32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found – IQ below 20 or 25</a:t>
            </a:r>
            <a:endParaRPr b="1" i="1" lang="en-US" sz="32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Unspecified – presumption of mental retardation but intelligence not testable with standardized instruments </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erm mental retardation  extremely general label that covers a heterogeneous set of conditions with different developmental paths and causes</a:t>
            </a:r>
            <a:endParaRPr b="1" i="1" lang="en-US" sz="28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storically, the characteristic most typically associated with mental retardation has been reduced intellectual functioning</a:t>
            </a:r>
            <a:endParaRPr b="1" i="1" lang="en-US" sz="28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The severity of the intellectual impairment has long been a common means of describing and classifying those with retardation</a:t>
            </a:r>
            <a:endParaRPr b="1" i="1" lang="en-US" sz="2800" spc="-1" strike="noStrike">
              <a:solidFill>
                <a:srgbClr val="ffffff"/>
              </a:solidFill>
              <a:latin typeface="Formata Medium"/>
            </a:endParaRPr>
          </a:p>
          <a:p>
            <a:pPr marL="343080" indent="0">
              <a:lnSpc>
                <a:spcPct val="8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Formata Medium"/>
            </a:endParaRPr>
          </a:p>
          <a:p>
            <a:pPr marL="343080" indent="0">
              <a:lnSpc>
                <a:spcPct val="8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Formata Medium"/>
            </a:endParaRPr>
          </a:p>
          <a:p>
            <a:pPr marL="343080" indent="0">
              <a:lnSpc>
                <a:spcPct val="8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PREVALENCE OF MENTAL RETARDATION</a:t>
            </a:r>
            <a:endParaRPr b="1" lang="en-US" sz="3800" spc="-1" strike="noStrike">
              <a:solidFill>
                <a:srgbClr val="ffffff"/>
              </a:solidFill>
              <a:latin typeface="Formata Medium"/>
            </a:endParaRPr>
          </a:p>
        </p:txBody>
      </p:sp>
      <p:sp>
        <p:nvSpPr>
          <p:cNvPr id="7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neral estimates of prevalence for mental retardation</a:t>
            </a:r>
            <a:endParaRPr b="1" i="1" lang="en-US" sz="32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anged from 1% to 3% of general population</a:t>
            </a:r>
            <a:endParaRPr b="1" lang="en-US" sz="28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bout 11% of all children with disabilities in US public schools, and what does this mean in terms of numbers of individuals receiving services under IDEA?</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velopmental Factors Explain how development plays a role in mental retardation</a:t>
            </a:r>
            <a:endParaRPr b="1" lang="en-US" sz="2400" spc="-1" strike="noStrike">
              <a:solidFill>
                <a:srgbClr val="ffffff"/>
              </a:solidFill>
              <a:latin typeface="Formata Medium"/>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gnancy: unborn baby develops rapidly and is vulnerable to diseases, maternal nutritional status, and accidents</a:t>
            </a:r>
            <a:endParaRPr b="1" i="1" lang="en-US" sz="32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ubella</a:t>
            </a:r>
            <a:endParaRPr b="1" lang="en-US" sz="28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fancy/Early childhood: dependent on his/her environment for nutrition, oxygen, protection from disease and trauma</a:t>
            </a:r>
            <a:endParaRPr b="1" i="1" lang="en-US" sz="3200" spc="-1" strike="noStrike">
              <a:solidFill>
                <a:srgbClr val="ffffff"/>
              </a:solidFill>
              <a:latin typeface="Formata Medium"/>
            </a:endParaRPr>
          </a:p>
          <a:p>
            <a:pPr lvl="1" marL="743040" indent="0">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tabolic Disorders: Child susceptible in prenatal and early childhood</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Etiology</a:t>
            </a:r>
            <a:endParaRPr b="1" lang="en-US" sz="3800" spc="-1" strike="noStrike">
              <a:solidFill>
                <a:srgbClr val="ffffff"/>
              </a:solidFill>
              <a:latin typeface="Formata Medium"/>
            </a:endParaRPr>
          </a:p>
        </p:txBody>
      </p:sp>
      <p:sp>
        <p:nvSpPr>
          <p:cNvPr id="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auses of mental retardation are many and varied</a:t>
            </a:r>
            <a:endParaRPr b="1" i="1" lang="en-US" sz="32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n some cases, pathology of a physiological or biological nature can be identified</a:t>
            </a:r>
            <a:endParaRPr b="1" i="1" lang="en-US" sz="32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as many as 30–40% of those with mental retardation, causation is unknown</a:t>
            </a:r>
            <a:endParaRPr b="1" i="1" lang="en-US" sz="3200" spc="-1" strike="noStrike">
              <a:solidFill>
                <a:srgbClr val="ffffff"/>
              </a:solidFill>
              <a:latin typeface="Formata Medium"/>
            </a:endParaRPr>
          </a:p>
          <a:p>
            <a:pPr marL="343080" indent="0">
              <a:lnSpc>
                <a:spcPct val="9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ntal retardation recognized perhaps longer than any other currently studied in psychology</a:t>
            </a:r>
            <a:endParaRPr b="1" i="1" lang="en-US" sz="32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Written documents from ancient Egypt made oblique reference to the condition as early as about 1500 BC</a:t>
            </a:r>
            <a:endParaRPr b="1" i="1" lang="en-US" sz="32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as often viewed as part of mental illness</a:t>
            </a:r>
            <a:endParaRPr b="1" lang="en-US" sz="28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latively common</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Prenatal and Neonatal Causation</a:t>
            </a:r>
            <a:endParaRPr b="1" lang="en-US" sz="3800" spc="-1" strike="noStrike">
              <a:solidFill>
                <a:srgbClr val="ffffff"/>
              </a:solidFill>
              <a:latin typeface="Formata Medium"/>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actors that may cause mental retardation during the prenatal and neonatal periods</a:t>
            </a:r>
            <a:endParaRPr b="1" i="1" lang="en-US" sz="28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tic Factors</a:t>
            </a:r>
            <a:endParaRPr b="1" lang="en-US" sz="24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ternal Characteristics</a:t>
            </a:r>
            <a:endParaRPr b="1" lang="en-US" sz="24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linical defects</a:t>
            </a:r>
            <a:endParaRPr b="1" lang="en-US" sz="24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irth problems due to delivery positions or atypical labor periods</a:t>
            </a:r>
            <a:endParaRPr b="1" lang="en-US" sz="24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w birth weight and inadequate gestational age</a:t>
            </a:r>
            <a:endParaRPr b="1" lang="en-US" sz="2400" spc="-1" strike="noStrike">
              <a:solidFill>
                <a:srgbClr val="ffffff"/>
              </a:solidFill>
              <a:latin typeface="Formata Medium"/>
            </a:endParaRPr>
          </a:p>
          <a:p>
            <a:pPr lvl="1" marL="743040" indent="0">
              <a:lnSpc>
                <a:spcPct val="9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Genetic Factors</a:t>
            </a:r>
            <a:endParaRPr b="1" lang="en-US" sz="3800" spc="-1" strike="noStrike">
              <a:solidFill>
                <a:srgbClr val="ffffff"/>
              </a:solidFill>
              <a:latin typeface="Formata Medium"/>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wn syndrome </a:t>
            </a:r>
            <a:endParaRPr b="1" i="1" lang="en-US" sz="32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ree types of Down syndrome, each resulting from a different type of chromosomal error.</a:t>
            </a:r>
            <a:endParaRPr b="1" lang="en-US" sz="2800" spc="-1" strike="noStrike">
              <a:solidFill>
                <a:srgbClr val="ffffff"/>
              </a:solidFill>
              <a:latin typeface="Formata Medium"/>
            </a:endParaRPr>
          </a:p>
          <a:p>
            <a:pPr lvl="2" marL="1143000" indent="-228600">
              <a:lnSpc>
                <a:spcPct val="80000"/>
              </a:lnSpc>
              <a:spcBef>
                <a:spcPts val="1199"/>
              </a:spcBef>
              <a:spcAft>
                <a:spcPts val="300"/>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ondisjunction</a:t>
            </a:r>
            <a:endParaRPr b="1" lang="en-US" sz="2400" spc="-1" strike="noStrike">
              <a:solidFill>
                <a:srgbClr val="ffffff"/>
              </a:solidFill>
              <a:latin typeface="Times New Roman"/>
            </a:endParaRPr>
          </a:p>
          <a:p>
            <a:pPr lvl="2" marL="1143000" indent="-228600">
              <a:lnSpc>
                <a:spcPct val="80000"/>
              </a:lnSpc>
              <a:spcBef>
                <a:spcPts val="1199"/>
              </a:spcBef>
              <a:spcAft>
                <a:spcPts val="300"/>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ranslocation</a:t>
            </a:r>
            <a:endParaRPr b="1" lang="en-US" sz="2400" spc="-1" strike="noStrike">
              <a:solidFill>
                <a:srgbClr val="ffffff"/>
              </a:solidFill>
              <a:latin typeface="Times New Roman"/>
            </a:endParaRPr>
          </a:p>
          <a:p>
            <a:pPr lvl="2" marL="1143000" indent="-228600">
              <a:lnSpc>
                <a:spcPct val="80000"/>
              </a:lnSpc>
              <a:spcBef>
                <a:spcPts val="1199"/>
              </a:spcBef>
              <a:spcAft>
                <a:spcPts val="300"/>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aicism</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Genetic Factors</a:t>
            </a:r>
            <a:endParaRPr b="1" lang="en-US" sz="3800" spc="-1" strike="noStrike">
              <a:solidFill>
                <a:srgbClr val="ffffff"/>
              </a:solidFill>
              <a:latin typeface="Formata Medium"/>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ragile X syndrome </a:t>
            </a:r>
            <a:endParaRPr b="1" i="1" lang="en-US" sz="28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me derives from the fact that the X chromosome of an affected individual will show a fragile spot when grown in an experimental culture</a:t>
            </a:r>
            <a:endParaRPr b="1" lang="en-US" sz="24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enylketonuria (PKU), an inherited metabolic disorder that occurs in about 1 of every 10,000 live births</a:t>
            </a:r>
            <a:endParaRPr b="1" i="1" lang="en-US" sz="28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Affected infants lack the ability to process phenylalanine, severely damages the central nervous system</a:t>
            </a:r>
            <a:endParaRPr b="1" lang="en-US" sz="24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Genetic Factors</a:t>
            </a:r>
            <a:endParaRPr b="1" lang="en-US" sz="3800" spc="-1" strike="noStrike">
              <a:solidFill>
                <a:srgbClr val="ffffff"/>
              </a:solidFill>
              <a:latin typeface="Formata Medium"/>
            </a:endParaRPr>
          </a:p>
        </p:txBody>
      </p:sp>
      <p:sp>
        <p:nvSpPr>
          <p:cNvPr id="8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ple syrup urine disease </a:t>
            </a:r>
            <a:endParaRPr b="1" i="1" lang="en-US" sz="2800" spc="-1" strike="noStrike">
              <a:solidFill>
                <a:srgbClr val="ffffff"/>
              </a:solidFill>
              <a:latin typeface="Formata Medium"/>
            </a:endParaRPr>
          </a:p>
          <a:p>
            <a:pPr lvl="1" marL="735480" indent="-28296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ffected infants tend to excrete urine that has a distinctive odor of maple syrup</a:t>
            </a:r>
            <a:endParaRPr b="1" lang="en-US" sz="2400" spc="-1" strike="noStrike">
              <a:solidFill>
                <a:srgbClr val="ffffff"/>
              </a:solidFill>
              <a:latin typeface="Formata Medium"/>
            </a:endParaRPr>
          </a:p>
          <a:p>
            <a:pPr lvl="1" marL="735480" indent="-28296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ay cause severe intellectual impairment, although more often than not the condition is fatal</a:t>
            </a:r>
            <a:endParaRPr b="1" lang="en-US" sz="2400" spc="-1" strike="noStrike">
              <a:solidFill>
                <a:srgbClr val="ffffff"/>
              </a:solidFill>
              <a:latin typeface="Formata Medium"/>
            </a:endParaRPr>
          </a:p>
          <a:p>
            <a:pPr lvl="1" marL="735480" indent="-28296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ause of this condition has been linked to metabolic deficiencies of three separate amino acids causing extreme CNS damage in the newborn</a:t>
            </a:r>
            <a:endParaRPr b="1" lang="en-US" sz="2400" spc="-1" strike="noStrike">
              <a:solidFill>
                <a:srgbClr val="ffffff"/>
              </a:solidFill>
              <a:latin typeface="Formata Medium"/>
            </a:endParaRPr>
          </a:p>
          <a:p>
            <a:pPr marL="339480" indent="-3394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ntreated maple syrup urine disease is fatal; few untreated infants survive more than a few weeks</a:t>
            </a:r>
            <a:endParaRPr b="1" i="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Genetic Factors</a:t>
            </a:r>
            <a:endParaRPr b="1" lang="en-US" sz="3800" spc="-1" strike="noStrike">
              <a:solidFill>
                <a:srgbClr val="ffffff"/>
              </a:solidFill>
              <a:latin typeface="Formata Medium"/>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alactosemia involves difficulty in carbohydrate (sugar) metabolism, rather than amino acid metabolism</a:t>
            </a:r>
            <a:endParaRPr b="1" i="1" lang="en-US" sz="32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fants with galactosemia are unable to properly process certain sugar components in milk</a:t>
            </a:r>
            <a:endParaRPr b="1" i="1" lang="en-US" sz="32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ults are toxic damage to the infant’s liver, brain, and other tissues</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 </a:t>
            </a:r>
            <a:endParaRPr b="1" lang="en-US" sz="3800" spc="-1" strike="noStrike">
              <a:solidFill>
                <a:srgbClr val="ffffff"/>
              </a:solidFill>
              <a:latin typeface="Formata Medium"/>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t all genetic disorders are metabolic in nature</a:t>
            </a:r>
            <a:endParaRPr b="1" i="1" lang="en-US" sz="32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Some sex-related (occurs in the sex chromosome portion of the genetic material)</a:t>
            </a:r>
            <a:endParaRPr b="1" i="1" lang="en-US" sz="32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her genetic disorders may produce a variety of physical and functional manifestations</a:t>
            </a:r>
            <a:endParaRPr b="1" i="1" lang="en-US" sz="3200" spc="-1" strike="noStrike">
              <a:solidFill>
                <a:srgbClr val="ffffff"/>
              </a:solidFill>
              <a:latin typeface="Formata Medium"/>
            </a:endParaRPr>
          </a:p>
          <a:p>
            <a:pPr marL="343080" indent="0">
              <a:lnSpc>
                <a:spcPct val="8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Maternal Characteristics</a:t>
            </a:r>
            <a:endParaRPr b="1" lang="en-US" sz="3800" spc="-1" strike="noStrike">
              <a:solidFill>
                <a:srgbClr val="ffffff"/>
              </a:solidFill>
              <a:latin typeface="Formata Medium"/>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8000"/>
          </a:bodyPr>
          <a:p>
            <a:pPr marL="335880" indent="-3358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ternal age </a:t>
            </a:r>
            <a:endParaRPr b="1" i="1" lang="en-US" sz="2800" spc="-1" strike="noStrike">
              <a:solidFill>
                <a:srgbClr val="ffffff"/>
              </a:solidFill>
              <a:latin typeface="Formata Medium"/>
            </a:endParaRPr>
          </a:p>
          <a:p>
            <a:pPr marL="335880" indent="-3358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equate nutrition may be one of the most important factors </a:t>
            </a:r>
            <a:endParaRPr b="1" i="1" lang="en-US" sz="2800" spc="-1" strike="noStrike">
              <a:solidFill>
                <a:srgbClr val="ffffff"/>
              </a:solidFill>
              <a:latin typeface="Formata Medium"/>
            </a:endParaRPr>
          </a:p>
          <a:p>
            <a:pPr marL="335880" indent="-3358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ch problems become especially severe when expectant mothers do not have access to health care advice or to prenatal medical care </a:t>
            </a:r>
            <a:endParaRPr b="1" i="1" lang="en-US" sz="2800" spc="-1" strike="noStrike">
              <a:solidFill>
                <a:srgbClr val="ffffff"/>
              </a:solidFill>
              <a:latin typeface="Formata Medium"/>
            </a:endParaRPr>
          </a:p>
          <a:p>
            <a:pPr marL="335880" indent="-3358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owever, the specific relationship remains unclear</a:t>
            </a:r>
            <a:endParaRPr b="1" i="1" lang="en-US" sz="2800" spc="-1" strike="noStrike">
              <a:solidFill>
                <a:srgbClr val="ffffff"/>
              </a:solidFill>
              <a:latin typeface="Formata Medium"/>
            </a:endParaRPr>
          </a:p>
          <a:p>
            <a:pPr marL="335880" indent="-3358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times the unborn fetus inadequately nourished regardless of the mother’s nutritional status</a:t>
            </a:r>
            <a:endParaRPr b="1" i="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 </a:t>
            </a:r>
            <a:endParaRPr b="1" lang="en-US" sz="3800" spc="-1" strike="noStrike">
              <a:solidFill>
                <a:srgbClr val="ffffff"/>
              </a:solidFill>
              <a:latin typeface="Formata Medium"/>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yroid deficiency, chronic diabetes, and anemia may substantially affect the development of the fetus and result in premature birth</a:t>
            </a:r>
            <a:endParaRPr b="1" i="1" lang="en-US" sz="32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maturity substantially increases the possibility of intellectual impairment</a:t>
            </a:r>
            <a:endParaRPr b="1" i="1" lang="en-US" sz="32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ternal diabetes is always considered to create some degree of risk for the baby</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rious damage to the fetus may be caused if mother and fetus have incompatible blood types. (Rh factor)</a:t>
            </a:r>
            <a:endParaRPr b="1" i="1" lang="en-US" sz="2800" spc="-1" strike="noStrike">
              <a:solidFill>
                <a:srgbClr val="ffffff"/>
              </a:solidFill>
              <a:latin typeface="Formata Medium"/>
            </a:endParaRPr>
          </a:p>
          <a:p>
            <a:pPr marL="339480" indent="-3394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variety of maternal infections </a:t>
            </a:r>
            <a:endParaRPr b="1" i="1" lang="en-US" sz="2800" spc="-1" strike="noStrike">
              <a:solidFill>
                <a:srgbClr val="ffffff"/>
              </a:solidFill>
              <a:latin typeface="Formata Medium"/>
            </a:endParaRPr>
          </a:p>
          <a:p>
            <a:pPr marL="339480" indent="-3394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erman measles (rubella) is perhaps the viral infection most widely recognized as causing mental retardation.</a:t>
            </a:r>
            <a:endParaRPr b="1" i="1" lang="en-US" sz="2800" spc="-1" strike="noStrike">
              <a:solidFill>
                <a:srgbClr val="ffffff"/>
              </a:solidFill>
              <a:latin typeface="Formata Medium"/>
            </a:endParaRPr>
          </a:p>
          <a:p>
            <a:pPr marL="339480" indent="-3394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Syphilis </a:t>
            </a:r>
            <a:endParaRPr b="1" i="1" lang="en-US" sz="2800" spc="-1" strike="noStrike">
              <a:solidFill>
                <a:srgbClr val="ffffff"/>
              </a:solidFill>
              <a:latin typeface="Formata Medium"/>
            </a:endParaRPr>
          </a:p>
          <a:p>
            <a:pPr marL="339480" indent="-3394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xoplasmosis</a:t>
            </a:r>
            <a:endParaRPr b="1" i="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 </a:t>
            </a:r>
            <a:endParaRPr b="1" lang="en-US" sz="3800" spc="-1" strike="noStrike">
              <a:solidFill>
                <a:srgbClr val="ffffff"/>
              </a:solidFill>
              <a:latin typeface="Formata Medium"/>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emicals, drugs, alcohol, and smoking </a:t>
            </a:r>
            <a:endParaRPr b="1" i="1" lang="en-US" sz="32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possible consequence of maternal alcohol abuse during pregnancy is fetal alcohol syndrome (FAS) or the less severe fetal alcohol effects (FAE)</a:t>
            </a:r>
            <a:endParaRPr b="1" lang="en-US" sz="2800" spc="-1" strike="noStrike">
              <a:solidFill>
                <a:srgbClr val="ffffff"/>
              </a:solidFill>
              <a:latin typeface="Formata Medium"/>
            </a:endParaRPr>
          </a:p>
          <a:p>
            <a:pPr marL="343080" indent="0">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a:p>
            <a:pPr marL="343080" indent="0">
              <a:lnSpc>
                <a:spcPct val="9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Defining Mental Retardation  </a:t>
            </a:r>
            <a:endParaRPr b="1" lang="en-US" sz="3800" spc="-1" strike="noStrike">
              <a:solidFill>
                <a:srgbClr val="ffffff"/>
              </a:solidFill>
              <a:latin typeface="Formata Medium"/>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lnSpc>
                <a:spcPct val="96000"/>
              </a:lnSpc>
              <a:spcBef>
                <a:spcPts val="2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Clinical Defects</a:t>
            </a:r>
            <a:endParaRPr b="1" lang="en-US" sz="3800" spc="-1" strike="noStrike">
              <a:solidFill>
                <a:srgbClr val="ffffff"/>
              </a:solidFill>
              <a:latin typeface="Formata Medium"/>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encephaly occurs early and results in incomplete development of the forebrain portion of cerebral tissue </a:t>
            </a:r>
            <a:endParaRPr b="1" i="1" lang="en-US" sz="2800" spc="-1" strike="noStrike">
              <a:solidFill>
                <a:srgbClr val="ffffff"/>
              </a:solidFill>
              <a:latin typeface="Formata Medium"/>
            </a:endParaRPr>
          </a:p>
          <a:p>
            <a:pPr marL="318960" indent="-31896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mproper closure at other parts of the neural tube may also cause damage to the central nervous system in the form of a condition known as spina bifida</a:t>
            </a:r>
            <a:endParaRPr b="1" i="1" lang="en-US" sz="2800" spc="-1" strike="noStrike">
              <a:solidFill>
                <a:srgbClr val="ffffff"/>
              </a:solidFill>
              <a:latin typeface="Formata Medium"/>
            </a:endParaRPr>
          </a:p>
          <a:p>
            <a:pPr marL="318960" indent="-31896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ydrocephalus is a clinical defect that is sometimes related to improper closure of the neural tube</a:t>
            </a:r>
            <a:endParaRPr b="1" i="1" lang="en-US" sz="2800" spc="-1" strike="noStrike">
              <a:solidFill>
                <a:srgbClr val="ffffff"/>
              </a:solidFill>
              <a:latin typeface="Formata Medium"/>
            </a:endParaRPr>
          </a:p>
          <a:p>
            <a:pPr marL="318960" indent="-31896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1" i="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Atypical Birth</a:t>
            </a:r>
            <a:endParaRPr b="1" lang="en-US" sz="3800" spc="-1" strike="noStrike">
              <a:solidFill>
                <a:srgbClr val="ffffff"/>
              </a:solidFill>
              <a:latin typeface="Formata Medium"/>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irth is stressful to mother and infant alike</a:t>
            </a:r>
            <a:endParaRPr b="1" i="1" lang="en-US" sz="28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rrent thinking focuses much more narrowly on the physical trauma of atypical births</a:t>
            </a:r>
            <a:endParaRPr b="1" i="1" lang="en-US" sz="28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osition of the fetus in utero</a:t>
            </a:r>
            <a:endParaRPr b="1" lang="en-US" sz="2400" spc="-1" strike="noStrike">
              <a:solidFill>
                <a:srgbClr val="ffffff"/>
              </a:solidFill>
              <a:latin typeface="Formata Medium"/>
            </a:endParaRPr>
          </a:p>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ther fetal positions substantially raise the probability of damage</a:t>
            </a:r>
            <a:endParaRPr b="1" i="1" lang="en-US" sz="28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reech presentation Several difficulties may result from a breech birth</a:t>
            </a:r>
            <a:endParaRPr b="1" lang="en-US" sz="2400" spc="-1" strike="noStrike">
              <a:solidFill>
                <a:srgbClr val="ffffff"/>
              </a:solidFill>
              <a:latin typeface="Formata Medium"/>
            </a:endParaRPr>
          </a:p>
          <a:p>
            <a:pPr lvl="2" marL="1143000" indent="-228600">
              <a:lnSpc>
                <a:spcPct val="70000"/>
              </a:lnSpc>
              <a:spcBef>
                <a:spcPts val="1199"/>
              </a:spcBef>
              <a:spcAft>
                <a:spcPts val="300"/>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y place a great deal of stress on the head of the baby</a:t>
            </a:r>
            <a:endParaRPr b="1" lang="en-US" sz="2000" spc="-1" strike="noStrike">
              <a:solidFill>
                <a:srgbClr val="ffffff"/>
              </a:solidFill>
              <a:latin typeface="Times New Roman"/>
            </a:endParaRPr>
          </a:p>
          <a:p>
            <a:pPr marL="343080" indent="0">
              <a:lnSpc>
                <a:spcPct val="8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Neonatal Characteristics</a:t>
            </a:r>
            <a:endParaRPr b="1" lang="en-US" sz="3800" spc="-1" strike="noStrike">
              <a:solidFill>
                <a:srgbClr val="ffffff"/>
              </a:solidFill>
              <a:latin typeface="Formata Medium"/>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wo neonatal characteristics highly related to a child’s risk of developing retardation: birth weight and gestational age</a:t>
            </a:r>
            <a:endParaRPr b="1" i="1" lang="en-US" sz="28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Gestational age refers to the age of a fetus calculated from the time of conception</a:t>
            </a:r>
            <a:endParaRPr b="1" i="1" lang="en-US" sz="28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Low birth weight and inadequate gestational age at birth (prematurity) are perhaps the most common neonatal risk factors </a:t>
            </a:r>
            <a:endParaRPr b="1" i="1" lang="en-US" sz="2800" spc="-1" strike="noStrike">
              <a:solidFill>
                <a:srgbClr val="ffffff"/>
              </a:solidFill>
              <a:latin typeface="Formata Medium"/>
            </a:endParaRPr>
          </a:p>
          <a:p>
            <a:pPr marL="343080" indent="0">
              <a:lnSpc>
                <a:spcPct val="9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Causation during Infancy and Childhood</a:t>
            </a:r>
            <a:endParaRPr b="1" lang="en-US" sz="3800" spc="-1" strike="noStrike">
              <a:solidFill>
                <a:srgbClr val="ffffff"/>
              </a:solidFill>
              <a:latin typeface="Formata Medium"/>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enetic disorders that cause developmental damage to the neurological system</a:t>
            </a:r>
            <a:endParaRPr b="1" i="1" lang="en-US" sz="32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sychosocial or environmental factors, where adequate stimulation to promote intellectual and social growth does not exist</a:t>
            </a:r>
            <a:endParaRPr b="1" i="1" lang="en-US" sz="3200" spc="-1" strike="noStrike">
              <a:solidFill>
                <a:srgbClr val="ffffff"/>
              </a:solidFill>
              <a:latin typeface="Formata Medium"/>
            </a:endParaRPr>
          </a:p>
          <a:p>
            <a:pPr marL="343080" indent="0">
              <a:lnSpc>
                <a:spcPct val="9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a:p>
            <a:pPr marL="343080" indent="0">
              <a:lnSpc>
                <a:spcPct val="9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a:p>
            <a:pPr marL="343080" indent="0">
              <a:lnSpc>
                <a:spcPct val="9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Treatment of children with mental retardation</a:t>
            </a:r>
            <a:endParaRPr b="1" lang="en-US" sz="3800" spc="-1" strike="noStrike">
              <a:solidFill>
                <a:srgbClr val="ffffff"/>
              </a:solidFill>
              <a:latin typeface="Formata Medium"/>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ree types of prenatal intervention</a:t>
            </a:r>
            <a:endParaRPr b="1" i="1" lang="en-US" sz="32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romosomal analysis for Down Syndrome or other genetic abnormalities may result decision to abort fetus </a:t>
            </a:r>
            <a:endParaRPr b="1" lang="en-US" sz="28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eatment for Rh blood incompatibility between mother and fetus may prevent fetal damage.</a:t>
            </a:r>
            <a:endParaRPr b="1" lang="en-US" sz="28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natal identification of a PKU problem may result in maternal dietary restrictions</a:t>
            </a:r>
            <a:endParaRPr b="1" lang="en-US" sz="2800" spc="-1" strike="noStrike">
              <a:solidFill>
                <a:srgbClr val="ffffff"/>
              </a:solidFill>
              <a:latin typeface="Formata Medium"/>
            </a:endParaRPr>
          </a:p>
          <a:p>
            <a:pPr lvl="1" marL="743040" indent="0">
              <a:lnSpc>
                <a:spcPct val="8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ormata Medium"/>
            </a:endParaRPr>
          </a:p>
          <a:p>
            <a:pPr marL="343080" indent="0">
              <a:lnSpc>
                <a:spcPct val="8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stnatal  Interventions</a:t>
            </a:r>
            <a:endParaRPr b="1" i="1" lang="en-US" sz="28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fant stimulation programs provide positive developmental environment for very young children who are at risk because of prenatal or later environmental circumstances</a:t>
            </a:r>
            <a:endParaRPr b="1" lang="en-US" sz="24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ecific instruction for young children in language skills appears promising and probably should be implemented as early as possible</a:t>
            </a:r>
            <a:endParaRPr b="1" lang="en-US" sz="24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clusion of young children of school age in classrooms with non disabled peers</a:t>
            </a:r>
            <a:endParaRPr b="1" lang="en-US" sz="2400" spc="-1" strike="noStrike">
              <a:solidFill>
                <a:srgbClr val="ffffff"/>
              </a:solidFill>
              <a:latin typeface="Formata Medium"/>
            </a:endParaRPr>
          </a:p>
          <a:p>
            <a:pPr marL="343080" indent="0">
              <a:lnSpc>
                <a:spcPct val="8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Prevention of Mental Retardation</a:t>
            </a:r>
            <a:endParaRPr b="1" lang="en-US" sz="3800" spc="-1" strike="noStrike">
              <a:solidFill>
                <a:srgbClr val="ffffff"/>
              </a:solidFill>
              <a:latin typeface="Formata Medium"/>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Because of the varied causes, prevention efforts have been extremely diverse, and some approaches have involved extremely controversial methods</a:t>
            </a:r>
            <a:endParaRPr b="1" i="1" lang="en-US" sz="32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In some cases, preventing mental retardation requires courses of action that are unacceptable to some segments of the population</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close relationship between medical personnel and new parents is important in the prevention of mental retardation</a:t>
            </a:r>
            <a:endParaRPr b="1" i="1" lang="en-US" sz="28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KU screening is now routinely undertaken when a baby is born</a:t>
            </a:r>
            <a:endParaRPr b="1" i="1" lang="en-US" sz="28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natal screening and diagnosis can also lead to preventive intervention that may be highly controversial from a moral and ethical perspective</a:t>
            </a:r>
            <a:endParaRPr b="1" i="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4 assumptions outlined by AAMR</a:t>
            </a:r>
            <a:endParaRPr b="1" lang="en-US" sz="3800" spc="-1" strike="noStrike">
              <a:solidFill>
                <a:srgbClr val="ffffff"/>
              </a:solidFill>
              <a:latin typeface="Formata Medium"/>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Valid Assessment considers cultural and linguistic diversity </a:t>
            </a:r>
            <a:endParaRPr b="1" i="1" lang="en-US" sz="28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xistence of limitations in adaptive skills occurs in context of community environments</a:t>
            </a:r>
            <a:endParaRPr b="1" i="1" lang="en-US" sz="28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pecific adaptive limitations can coexist with strengths</a:t>
            </a:r>
            <a:endParaRPr b="1" i="1" lang="en-US" sz="28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th appropriate support, life functioning will generally improve</a:t>
            </a:r>
            <a:endParaRPr b="1" i="1" lang="en-US" sz="2800" spc="-1" strike="noStrike">
              <a:solidFill>
                <a:srgbClr val="ffffff"/>
              </a:solidFill>
              <a:latin typeface="Formata Medium"/>
            </a:endParaRPr>
          </a:p>
          <a:p>
            <a:pPr marL="343080" indent="0">
              <a:lnSpc>
                <a:spcPct val="9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Formata Medium"/>
            </a:endParaRPr>
          </a:p>
          <a:p>
            <a:pPr lvl="1" marL="743040" indent="0">
              <a:lnSpc>
                <a:spcPct val="9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unication, the ability to understand and communicate information</a:t>
            </a:r>
            <a:endParaRPr b="1" i="1" lang="en-US" sz="32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lf-care skills such as toileting, eating, hygiene</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me living, including interchange wit others</a:t>
            </a:r>
            <a:endParaRPr b="1" i="1" lang="en-US" sz="32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cial skills, including interchange with others</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unity Use, including shopping and obtaining services and use of community resources</a:t>
            </a:r>
            <a:endParaRPr b="1" i="1" lang="en-US" sz="32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lf-direction, such as making choices and following a schedule</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ealth and safety, including eating and basic first aid</a:t>
            </a:r>
            <a:endParaRPr b="1" i="1" lang="en-US" sz="32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unctional academics, skills related to learning in school that have direct application in life</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r">
              <a:lnSpc>
                <a:spcPct val="96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eisure, developing a variety of leisure and recreational interests</a:t>
            </a:r>
            <a:endParaRPr b="1" i="1" lang="en-US" sz="3200" spc="-1" strike="noStrike">
              <a:solidFill>
                <a:srgbClr val="ffffff"/>
              </a:solidFill>
              <a:latin typeface="Formata Medium"/>
            </a:endParaRPr>
          </a:p>
          <a:p>
            <a:pPr marL="343080" indent="-34308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k, the ability to maintain part- or full-time employment</a:t>
            </a:r>
            <a:endParaRPr b="1" i="1" lang="en-US" sz="32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0:36:10Z</dcterms:created>
  <dc:creator>DMONEYPENNY</dc:creator>
  <dc:description/>
  <dc:language>en-US</dc:language>
  <cp:lastModifiedBy>dshea</cp:lastModifiedBy>
  <dcterms:modified xsi:type="dcterms:W3CDTF">2010-05-04T15:41:43Z</dcterms:modified>
  <cp:revision>6</cp:revision>
  <dc:subject/>
  <dc:title>Chapter 12</dc:title>
</cp:coreProperties>
</file>