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F42-B3D3-4628-9BF1-976CB63C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750-D4A3-443D-9011-A050E7FF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3B9-2337-4176-90B9-39C6BE60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581-13EB-4FA5-9294-764DDE45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BFB-4855-48B2-9B1E-91345FF1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5CC-8469-4FCD-BC3D-6AF273E0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794-B933-4414-A45C-9D3A151B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494-8D9C-46FD-BCC9-E02583B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76360"/>
            <a:ext cx="7772400" cy="55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315-FAF9-49BD-8B3D-068E8AC3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572-F6B4-4F3D-9CC4-E69955D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F9F-1F03-4A23-8215-40DEEDDE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3DF-6A43-46B4-9930-01C79A9E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8f8f8"/>
                </a:solidFill>
                <a:latin typeface="Formata Regular"/>
              </a:rPr>
              <a:t>Click to edit the title text format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Click to edit the outline text forma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econd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2" marL="11430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Third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3" marL="16002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Four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4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Fif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5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ix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6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even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5718-D3F2-4FB4-ABDD-2775A52FDA8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5" name="Line 8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2020/video/inside-world-childhood-schizophrenia-10090286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18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hapter 13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utism, Childhood Schizophrenia, and Related Conditions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ane Shea, Ph.D.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Holy Family University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7004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Some abnormal social interactions characteristic of autism and Asperger’s disorder</a:t>
            </a:r>
            <a:endParaRPr b="1" lang="en-US" sz="25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ose with autism may not engage in social communication at all, while Asperger’s disorder may have limited or atypical social interac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is characterized by a lack of varied, spontaneous play or social imitative play at an appropriate developmental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is no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Other Pervasive Developmental Disorder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tt’s Disorder: A pervasive developmental disorder characterized by seemingly normal development through about the first 5 months but a slowing of development thereafter, a loss of purposeful hand movements followed by the development of stereotyped hand activity, accompanied by serious impairment of language develop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8f8f8"/>
                </a:solidFill>
                <a:latin typeface="Times New Roman"/>
              </a:rPr>
              <a:t>Childhood Disintegrative Disorde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hood Disintegrative Disorder: Characterized by significant regression in several areas of functioning following at least 2 years of normal development.  Affected areas may include language and communication skills, social skills, motor skills, and bowel or bladder contro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HILDHOOD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No separate Category in DSM-IV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icult to study using criteria of adult schizophrenia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Formata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ccff"/>
                </a:solidFill>
                <a:uFillTx/>
                <a:latin typeface="Formata Regular"/>
                <a:hlinkClick r:id="rId1"/>
              </a:rPr>
              <a:t>http://abcnews.go.com/2020/video/inside-world-childhood-schizophrenia-10090286</a:t>
            </a:r>
            <a:endParaRPr b="1" i="1" lang="en-US" sz="1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Primary differences between autism and childhood schizophrenia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is defined as basically a condition in which social relationships are greatly disturbed; chs is characterized by thought disorder and hallucin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 /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erence in age of onset.  Autism tends to early in life (before 2 ½ ). Schizophrenia appears between 7 – 15 year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ren with autism often have mental retardation – those with schizophrenia tend to develop normally and then withdraw into fantasy world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 /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ren with schizophrenia often suffer hallucin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ose with autism do no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Social Sensitivity and Social Skills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nability to form personal relationships and to relate socially to other human beings is considered the core characteristic of children with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typical patterns of eye contact and gaze aversion, approach and avoidance tendencies, play skills, and social skills training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ocial withdrawal and avoidance of other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sturbance of language is a basic symptom of childhood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cholalia: repeating sentences or questions addressed to them ( “parrot speech” 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Overview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5 categories of pervasive developmental disorders according to DSM-IV-TR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ype and quality of language of children with autism contrasted with the language of children having schizophrenia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rst, the language of children with autism is generally delayed or disrupted in its normal development. The language of children with schizophrenia does not consistently show impaired development 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, the language of children with autism confused and the content impoverished; Children with schizophrenia generally use correct language structure but may communicate bizarre thoughts. Intelligence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Self-Stimulatory and Self-Injurious Behavio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lf-stimulatory, or stereotypic, behavior repetitive, apparently purposeless behavior that occurs in normal, psychotic, and developmentally disordered children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fferences in self-stimulatory and self-injurious behavior between children with autism and those having schizophrenia not thoroughly investigated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oth types of behaviors can occur in both types of conditions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ne basic difference is the frequency of occurrence. Generally, children with autism engage in self-stimulatory and self-injurious behaviors at much higher rates than do children with schizophrenia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Stimulus Overselectivity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 focuses on only a part of a stimulus, perhaps an irrelevant cue or at least one that is not a central feature, and ignores other important feature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hinders children as they attempt to learn complex discriminations in language and the subtle choices involved in developing social skill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Family Characteristic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arly theorists characterized the mothers of children with autism as being cold and rejecting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view that parents of children with autism, as a group, are characteristically rejecting and cold receives little research or clinical suppor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Causation Theories for Autism and Childhood Schizophrenia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sychodynamic Theori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iological Theori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sychodynamic The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evelopment of schizophrenia caused by a fixation of the libido (sexual energy) at an early stage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uggests that causation of autism is related to the child’s withdrawing from such rejection and erecting defensive barriers to the outside world to avoid psychological pain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Biological The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iological theorists view the causes of autism and schizophrenia as functions of birth trauma, viral infections such as German measles, and metabolic problem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enetic factors have also attracted considerable attention as a cause of both autism and schizophrenia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stablishment of a solid database is still in progres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Diseases affecting the central nervous system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ubella or influenza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herpes simplex virus has also been suspected of attacking the neurological system, resulting in symptoms of both autism and schizophrenia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Genetic studies of both autism and childhood schizophrenia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olygenic model (involving many recessive genes from both parents) as causative in some of the cas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ateg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tt’s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hood disintegrative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ervasive development disorder not otherwise specified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5540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Treatment of Autism and Childhood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sychoanalytic approaches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verall effectiveness in improving a severely impaired child’s behavior is questionable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length of time required for such treatment is very long and thus not considered cost-effective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sychoanalytic assumption that parents cause the conditions is fundamentally in error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Behavioral Treatment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ased on a thorough observation and evaluation of the child’s behavior, treats problem behaviors directly, and includes parents as part of the treatment team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most dramatic effects of the use of behavior management techniques have occurred in the treatment of severe self-stimulation, self-injury, and other discrete, targeted behavior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entral among the important gains in treating autistic children has been the inclusion of parents as active members of the treat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echniques employing the basic principles of applied behavior analysis are effective, but they do not cure children with autism or schizophrenia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y effectively manage problematic behaviors and teach needed survival behavior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main effects of such treatments are teaching children some self-help skills and successfully keeping the children in the community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Medical Treatment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sychosurgery (mostly abandoned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lectro convulsive shock  (mostly abandoned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rug therapie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major advances in antipsychotic and other medications directed at controlling behavior and managing symptom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rognosis for Children with Autism or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Without adequate treatment, children with autism or schizophrenia will not improve a great deal as they develop and grow ol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pecific treatment programs may substantially improve functional skills and independent functioning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ntelligence level is one of the most important predictors of future outcome for children with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Language seems to be a critical element when IQ is above 50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eneral prevalence estimate for autism?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4 to 8 cases per 10,000 individual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ome estimates based on the autistic spectrum concept range from 6 to over 20 per 10,000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4 areas of functional challenge often found in children with autism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anguage 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terpersonal skill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tellectual functioning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motional or affective behavior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The DSM-IV-TR diagnostic criter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condition is characterized by an onset occurring before 3 years of age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sperger’s Disorde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erences in language or communication between autism and Asperger’s disorder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sperger’s disorder: no clinically significant general delay in language 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utism: often has a delay or total lack of spoken language development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has a marked impairment in initiating or sustaining convers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syndrome does not show this impair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often involves a stereotyped and repetitive use of language or idiosyncratic language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disorder does not show this impair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2:51:16Z</dcterms:created>
  <dc:creator>DMONEYPENNY</dc:creator>
  <dc:description/>
  <dc:language>en-US</dc:language>
  <cp:lastModifiedBy>dshea</cp:lastModifiedBy>
  <dcterms:modified xsi:type="dcterms:W3CDTF">2012-06-25T20:20:59Z</dcterms:modified>
  <cp:revision>7</cp:revision>
  <dc:subject/>
  <dc:title>13</dc:title>
</cp:coreProperties>
</file>