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175-B071-4C13-A37D-E6D2699F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1AC-B48E-4B81-93F2-ED774701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2B6-DF9D-4FB8-A11E-FB1065F1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B10-6A1F-4BAB-B310-87227EAE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1F4-1BF2-40B1-AFD5-F0533F3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87A-6CAC-406D-99D2-54C70851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826-7753-48E1-823E-CA19DAB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31F-EE80-4BDA-A8A2-1CFEE67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76360"/>
            <a:ext cx="7772400" cy="55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60A-3947-4FDA-9EC1-BE0AD659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EC5-1FBE-46D3-B401-148AFAD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7B2-7DC2-483A-B6BE-60D7CAD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5A-88EC-45E8-90C8-B9353F3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8f8f8"/>
                </a:solidFill>
                <a:latin typeface="Formata Regular"/>
              </a:rPr>
              <a:t>Click to edit the title text forma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Click to edit the outline text forma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con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2" marL="11430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Thir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3" marL="16002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our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4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if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5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ix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6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ven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8C57-9C0D-4BAD-9F28-6654681228B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2020/video/inside-world-childhood-schizophrenia-10090286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18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apter 13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, Childhood Schizophrenia, and Related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ane Shea, Ph.D.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oly Family Univers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7004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Some abnormal social interactions characteristic of autism and Asperger’s disorder</a:t>
            </a:r>
            <a:endParaRPr b="1" lang="en-US" sz="25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may not engage in social communication at all, while Asperger’s disorder may have limited or atypical social interac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characterized by a lack of varied, spontaneous play or social imitative play at an appropriate developmental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is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ther Pervasive Developmental Disorder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: A pervasive developmental disorder characterized by seemingly normal development through about the first 5 months but a slowing of development thereafter, a loss of purposeful hand movements followed by the development of stereotyped hand activity, accompanied by serious impairment of language develop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: Characterized by significant regression in several areas of functioning following at least 2 years of normal development.  Affected areas may include language and communication skills, social skills, motor skills, and bowel or bladder contro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No separate Category in DSM-IV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icult to study using criteria of adult schizophreni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Formata Regular"/>
                <a:hlinkClick r:id="rId1"/>
              </a:rPr>
              <a:t>http://abcnews.go.com/2020/video/inside-world-childhood-schizophrenia-10090286</a:t>
            </a: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rimary differences between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defined as basically a condition in which social relationships are greatly disturbed; chs is characterized by thought disorder and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 in age of onset.  Autism tends to early in life (before 2 ½ ). Schizophrenia appears between 7 – 15 yea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autism often have mental retardation – those with schizophrenia tend to develop normally and then withdraw into fantasy worl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schizophrenia often suffer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do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Social Sensitivity and Social Skills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ability to form personal relationships and to relate socially to other human beings is considered the core characteristic of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ypical patterns of eye contact and gaze aversion, approach and avoidance tendencies, play skills, and social skills trai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ocial withdrawal and avoidance of other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sturbance of language is a basic symptom of childhood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cholalia: repeating sentences or questions addressed to them ( “parrot speech” 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verview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 categories of pervasive developmental disorders according to DSM-IV-T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ype and quality of language of children with autism contrasted with the language of children having schizophrenia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, the language of children with autism is generally delayed or disrupted in its normal development. The language of children with schizophrenia does not consistently show impaired development 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, the language of children with autism confused and the content impoverished; Children with schizophrenia generally use correct language structure but may communicate bizarre thoughts. Intelligence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elf-Stimulatory and Self-Injurious Behavio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lf-stimulatory, or stereotypic, behavior repetitive, apparently purposeless behavior that occurs in normal, psychotic, and developmentally disordered childre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fferences in self-stimulatory and self-injurious behavior between children with autism and those having schizophrenia not thoroughly investigated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types of behaviors can occur in both types of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e basic difference is the frequency of occurrence. Generally, children with autism engage in self-stimulatory and self-injurious behaviors at much higher rates than do children with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timulus Overselectivity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 focuses on only a part of a stimulus, perhaps an irrelevant cue or at least one that is not a central feature, and ignores other important featur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inders children as they attempt to learn complex discriminations in language and the subtle choices involved in developing social skill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Family Characteristic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arly theorists characterized the mothers of children with autism as being cold and rejecting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view that parents of children with autism, as a group, are characteristically rejecting and cold receives little research or clinical suppor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Causation Theories for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evelopment of schizophrenia caused by a fixation of the libido (sexual energy) at an early st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uggests that causation of autism is related to the child’s withdrawing from such rejection and erecting defensive barriers to the outside world to avoid psychological pai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iological theorists view the causes of autism and schizophrenia as functions of birth trauma, viral infections such as German measles, and metabolic problem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enetic factors have also attracted considerable attention as a cause of both autism and schizophrenia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stablishment of a solid database is still in progres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Diseases affecting the central nervous system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ubella or influenz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herpes simplex virus has also been suspected of attacking the neurological system, resulting in symptoms of both autism and schizophrenia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Genetic studies of both autism and childhood schizophrenia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olygenic model (involving many recessive genes from both parents) as causative in some of the cas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ateg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ervasive development disorder not otherwise specifie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5540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reatment of Autism and 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analytic approaches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all effectiveness in improving a severely impaired child’s behavior is questionabl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length of time required for such treatment is very long and thus not considered cost-effectiv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sychoanalytic assumption that parents cause the conditions is fundamentally in error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ehavioral Treatment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ased on a thorough observation and evaluation of the child’s behavior, treats problem behaviors directly, and includes parents as part of the treatment team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ost dramatic effects of the use of behavior management techniques have occurred in the treatment of severe self-stimulation, self-injury, and other discrete, targeted behavio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entral among the important gains in treating autistic children has been the inclusion of parents as active members of the treat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chniques employing the basic principles of applied behavior analysis are effective, but they do not cure children with autism or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y effectively manage problematic behaviors and teach needed survival behavior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main effects of such treatments are teaching children some self-help skills and successfully keeping the children in the commun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Medical Treatmen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surgery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 convulsive shock 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rug therapi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ajor advances in antipsychotic and other medications directed at controlling behavior and managing symptom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rognosis for Children with Autism or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ithout adequate treatment, children with autism or schizophrenia will not improve a great deal as they develop and grow ol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pecific treatment programs may substantially improve functional skills and independent functio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telligence level is one of the most important predictors of future outcome for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Language seems to be a critical element when IQ is above 50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eneral prevalence estimate for autism?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4 to 8 cases per 10,000 individua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ome estimates based on the autistic spectrum concept range from 6 to over 20 per 10,000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4 areas of functional challenge often found in children with autism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rpersonal skil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llectual functioning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otional or affective behavior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he DSM-IV-TR diagnostic criter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condition is characterized by an onset occurring before 3 years of age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s in language or communication between autism and Asperger’s disorde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sperger’s disorder: no clinically significant general delay in 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: often has a delay or total lack of spoken language development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has a marked impairment in initiating or sustaining convers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syndrome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often involves a stereotyped and repetitive use of language or idiosyncratic langu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2:51:16Z</dcterms:created>
  <dc:creator>DMONEYPENNY</dc:creator>
  <dc:description/>
  <dc:language>en-US</dc:language>
  <cp:lastModifiedBy>dshea</cp:lastModifiedBy>
  <dcterms:modified xsi:type="dcterms:W3CDTF">2012-06-25T20:20:59Z</dcterms:modified>
  <cp:revision>7</cp:revision>
  <dc:subject/>
  <dc:title>13</dc:title>
</cp:coreProperties>
</file>