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Click to move the slide</a:t>
            </a:r>
            <a:endParaRPr b="1" lang="en-US" sz="3800" spc="-1" strike="noStrike">
              <a:solidFill>
                <a:srgbClr val="ffffff"/>
              </a:solidFill>
              <a:latin typeface="Century Old Style"/>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8D4D-CDE8-439F-968F-032944A87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510C-856E-4964-BE65-92E5E7D749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EDB3-BB29-4DC4-B69C-AF2535D7702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the early 1900s, Walter Cannon and A.L. Washburn hypothesized that there is an association between stomach contractions and the experience of hunger; Cannon hypothesized a causal relationship, yet people who have their stomachs removed still experience hunger.  This realization led to more complicated theories focusing on the brain, blood sugar, and hormon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earch in the 1940s and 1950s showed that the hypothalamus, particularly two areas called the lateral hypothalamus (LH) and the ventromedial nucleus of the hypothalamus (VMH), are important in hunger. The LH was thought to be the hunger center, while the VMH was thought to be the satiety center. Subsequent research indicated that this was an oversimplified picture, although the LH and VMH are part of the hunger circuit, they are not the key el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araventricular nucleus of the hypothalamus has recently been implicated as another influential part of the hunger circui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ther research has focused on the role of blood glucose and digestive regulation on hunger; when blood sugar goes down, hunger goes up. Glucostatic theory proposed that fluctuations in blood glucose level are monitored in the brain by glucostats – neurons sensitive to glucose in the surrounding fluid. It appears likely that hunger is regulated, in part, through glucostatic mechanis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rmones circulating in the blood also appear to be related to hunger.  Insulin, secreted by the pancreas, must be present for cells to use blood glucose. Increases in insulin increase hunger, and the mere sight and smell of food has been shown to increase insuli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cently, a new hormone, leptin, has been discovered to be released from fat cells into the bloodstream. Leptin is believed to signal the hypothalamus about fat stores in the body, causing decreases in hunger when fat stores are high.</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1F4D-ADF8-433A-A6D2-62116BF375D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early, hunger is related to biology; however, it is also regulated by environmental factors.  Three factors, beyond biological hunger, exert significant influence over food consump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latability: people eat more when the food available tastes good to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ntity available: people eat more when more food is put in front of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 people eat more when there is a greater variety of foods available to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eople’s food preferences are influenced through classical conditioning, and their eating habits are acquired partly through observational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ally, stress has been shown to be related to increased eating, with some research indicating that chronic dieters are more likely to respond to stress with eating. It is unclear whether stress induced eating is caused by physiological arousal or negative emotion. It is also unclear whether the effects of stress on hunger are direct or indirec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5ADD-BCE4-4AF4-AF20-D603A17960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F5BA-786C-4259-8EC7-E65B6DFFE2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8C08A-B0D7-4291-A339-0E16F2046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B414A-55D2-4B0E-B277-164D0FB77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CC49F-EC79-4E33-B7CF-7188C3BAF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ED716-13DD-4B32-84C9-C31FC919B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E0CCF-FFF2-4FDA-81E0-24D61FD34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6088A-A173-4137-B0B1-EF032EBF5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B8298-699D-4A7F-A5C2-E25C670E1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6EBCD-7D4A-4E2F-92F5-F00A8CA81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76360"/>
            <a:ext cx="7772400" cy="5590080"/>
          </a:xfrm>
          <a:prstGeom prst="rect">
            <a:avLst/>
          </a:prstGeom>
          <a:noFill/>
          <a:ln w="0">
            <a:noFill/>
          </a:ln>
        </p:spPr>
        <p:txBody>
          <a:bodyPr lIns="0" rIns="0" tIns="0" bIns="0" anchor="ctr">
            <a:noAutofit/>
          </a:bodyPr>
          <a:p>
            <a:pPr algn="ctr">
              <a:lnSpc>
                <a:spcPct val="8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525C1-D777-455C-9ECA-82F96B07F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66F23-3A1A-4376-9403-70C9C0A60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91B00-A2BF-4D73-938A-BE18410AE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75AFC-7ED3-4B8C-AD20-18D78E037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Click to edit the title text format</a:t>
            </a:r>
            <a:endParaRPr b="1" lang="en-US" sz="3800" spc="-1" strike="noStrike">
              <a:solidFill>
                <a:srgbClr val="ffffff"/>
              </a:solidFill>
              <a:latin typeface="Century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Click to edit the outline text format</a:t>
            </a:r>
            <a:endParaRPr b="1" i="1" lang="en-US" sz="3200" spc="-1" strike="noStrike">
              <a:solidFill>
                <a:srgbClr val="ffffff"/>
              </a:solidFill>
              <a:latin typeface="Century Old Style"/>
            </a:endParaRPr>
          </a:p>
          <a:p>
            <a:pPr lvl="1" marL="743040" indent="-285840">
              <a:lnSpc>
                <a:spcPct val="80000"/>
              </a:lnSpc>
              <a:spcBef>
                <a:spcPts val="201"/>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econd Outline Level</a:t>
            </a:r>
            <a:endParaRPr b="1" i="1" lang="en-US" sz="3200" spc="-1" strike="noStrike">
              <a:solidFill>
                <a:srgbClr val="ffffff"/>
              </a:solidFill>
              <a:latin typeface="Century Old Style"/>
            </a:endParaRPr>
          </a:p>
          <a:p>
            <a:pPr lvl="2" marL="11430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Third Outline Level</a:t>
            </a:r>
            <a:endParaRPr b="1" i="1" lang="en-US" sz="3200" spc="-1" strike="noStrike">
              <a:solidFill>
                <a:srgbClr val="ffffff"/>
              </a:solidFill>
              <a:latin typeface="Century Old Style"/>
            </a:endParaRPr>
          </a:p>
          <a:p>
            <a:pPr lvl="3" marL="1600200" indent="-228600">
              <a:lnSpc>
                <a:spcPct val="80000"/>
              </a:lnSpc>
              <a:spcBef>
                <a:spcPts val="201"/>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ourth Outline Level</a:t>
            </a:r>
            <a:endParaRPr b="1" i="1" lang="en-US" sz="3200" spc="-1" strike="noStrike">
              <a:solidFill>
                <a:srgbClr val="ffffff"/>
              </a:solidFill>
              <a:latin typeface="Century Old Style"/>
            </a:endParaRPr>
          </a:p>
          <a:p>
            <a:pPr lvl="4"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ifth Outline Level</a:t>
            </a:r>
            <a:endParaRPr b="1" i="1" lang="en-US" sz="3200" spc="-1" strike="noStrike">
              <a:solidFill>
                <a:srgbClr val="ffffff"/>
              </a:solidFill>
              <a:latin typeface="Century Old Style"/>
            </a:endParaRPr>
          </a:p>
          <a:p>
            <a:pPr lvl="5"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ixth Outline Level</a:t>
            </a:r>
            <a:endParaRPr b="1" i="1" lang="en-US" sz="3200" spc="-1" strike="noStrike">
              <a:solidFill>
                <a:srgbClr val="ffffff"/>
              </a:solidFill>
              <a:latin typeface="Century Old Style"/>
            </a:endParaRPr>
          </a:p>
          <a:p>
            <a:pPr lvl="6"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eventh Outline Level</a:t>
            </a:r>
            <a:endParaRPr b="1" i="1" lang="en-US" sz="3200" spc="-1" strike="noStrike">
              <a:solidFill>
                <a:srgbClr val="ffffff"/>
              </a:solidFill>
              <a:latin typeface="Century Old Styl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7262-7994-4A7E-86B6-A471B37106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2286000" y="1600200"/>
            <a:ext cx="6095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2M3WbBp4LA&amp;feature=related" TargetMode="External"/><Relationship Id="rId2" Type="http://schemas.openxmlformats.org/officeDocument/2006/relationships/hyperlink" Target="http://www.youtube.com/watch?v=4zuDNSzO3zA&amp;feature=channel_page"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bedwettingstore.com/malem-ultimate-bedwetting-alarm.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youtube.com/watch?v=9VCIY-UvcII"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QSqtVDIwnHo"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VS2mfWDryPE&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73280"/>
            <a:ext cx="7772400" cy="565200"/>
          </a:xfrm>
          <a:prstGeom prst="rect">
            <a:avLst/>
          </a:prstGeom>
          <a:noFill/>
          <a:ln w="0">
            <a:noFill/>
          </a:ln>
        </p:spPr>
        <p:txBody>
          <a:bodyPr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 14</a:t>
            </a:r>
            <a:endParaRPr b="1" lang="en-US" sz="3200" spc="-1" strike="noStrike">
              <a:solidFill>
                <a:srgbClr val="ffffff"/>
              </a:solidFill>
              <a:latin typeface="Century Old Style"/>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logy and Children’s Health</a:t>
            </a: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ne Shea, Ph.D.</a:t>
            </a: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ly Family Univers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he Course of Anorexia Nervosa</a:t>
            </a:r>
            <a:endParaRPr b="1" lang="en-US" sz="3800" spc="-1" strike="noStrike">
              <a:solidFill>
                <a:srgbClr val="ffffff"/>
              </a:solidFill>
              <a:latin typeface="Century Old Style"/>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describe experiences that they believe prompted or precipitated their unusual eating behavior</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set usually quite sudden</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pite even strong objections from others, anorexics deny that they are thin and continue behavior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e anorexic pursues the destructive routine until physically unable to go on</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Anorexia Nervosa</a:t>
            </a:r>
            <a:endParaRPr b="1" lang="en-US" sz="3800" spc="-1" strike="noStrike">
              <a:solidFill>
                <a:srgbClr val="ffffff"/>
              </a:solidFill>
              <a:latin typeface="Century Old Style"/>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seemingly trivial occurrences trigger their anorexia? </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ite much study, the etiology of anorexia nervosa remains unclear</a:t>
            </a:r>
            <a:endParaRPr b="1" i="1" lang="en-US" sz="28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 factors </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monal and endocrine problems</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sessive-compulsive tendencies, depression, </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ither genetic nor environmental influences can be ruled out</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eatment of Anorexia Nervosa</a:t>
            </a:r>
            <a:endParaRPr b="1" lang="en-US" sz="3600" spc="-1" strike="noStrike">
              <a:solidFill>
                <a:srgbClr val="ffffff"/>
              </a:solidFill>
              <a:latin typeface="Century Old Style"/>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ct the individual’s nutrition problem and achieve medical stabilization</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ore a normal diet, which can be difficult if patients resist</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must address a variety of factors since the weight and nutrition problems may be symptoms of other persistent psychological difficulties</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apy approaches often include family counseling. Family therapy seems to have more lasting effects</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Bulimia Nervousa</a:t>
            </a:r>
            <a:endParaRPr b="1" lang="en-US" sz="3800" spc="-1" strike="noStrike">
              <a:solidFill>
                <a:srgbClr val="ffffff"/>
              </a:solidFill>
              <a:latin typeface="Century Old Style"/>
            </a:endParaRPr>
          </a:p>
        </p:txBody>
      </p:sp>
      <p:sp>
        <p:nvSpPr>
          <p:cNvPr id="7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Uncontrollable urges to eat huge amounts of food</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Get rid of excess calories by vomiting, abusing laxatives or diuretics, taking enemas or exercising compulsively</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Tied to times of anger, loneliness, fear, anxiety or stress</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a:t>
            </a:r>
            <a:r>
              <a:rPr b="1" i="1" lang="en-US" sz="2800" spc="-1" strike="noStrike">
                <a:solidFill>
                  <a:srgbClr val="ffffff"/>
                </a:solidFill>
                <a:latin typeface="Century Old Style"/>
              </a:rPr>
              <a:t>secret eating disorder”</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f2M3WbBp4LA&amp;feature=related</a:t>
            </a: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ccff"/>
                </a:solidFill>
                <a:uFillTx/>
                <a:latin typeface="Century Old Style"/>
                <a:hlinkClick r:id="rId2"/>
              </a:rPr>
              <a:t>http://www.youtube.com/watch?v=4zuDNSzO3zA&amp;feature=channel_page</a:t>
            </a:r>
            <a:endParaRPr b="1" i="1" lang="en-US" sz="1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869760"/>
            <a:ext cx="7772400" cy="6188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limia Nervosa</a:t>
            </a:r>
            <a:endParaRPr b="1" lang="en-US" sz="3600" spc="-1" strike="noStrike">
              <a:solidFill>
                <a:srgbClr val="ffffff"/>
              </a:solidFill>
              <a:latin typeface="Century Old Style"/>
            </a:endParaRPr>
          </a:p>
        </p:txBody>
      </p:sp>
      <p:sp>
        <p:nvSpPr>
          <p:cNvPr id="76" name="PlaceHolder 2"/>
          <p:cNvSpPr>
            <a:spLocks noGrp="1"/>
          </p:cNvSpPr>
          <p:nvPr>
            <p:ph/>
          </p:nvPr>
        </p:nvSpPr>
        <p:spPr>
          <a:xfrm>
            <a:off x="685800" y="1904760"/>
            <a:ext cx="7772400" cy="464796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imia vs. Anorexia</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limia Nervosa: frequent episodes of uncontrolled binge eating alternately purging.  Can co-occur with Anorexia Nervosa</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Bulimia, individuals usually maintain weight close to appropriate level; with anorexia individual greatly underweigh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Bulimia individuals fluctuate between gaining and loosing weight</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Anorexia, individuals suffer extreme, life-threatening, weight los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9380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tiology of Bulimia Nervosa</a:t>
            </a:r>
            <a:endParaRPr b="1" lang="en-US" sz="3600" spc="-1" strike="noStrike">
              <a:solidFill>
                <a:srgbClr val="ffffff"/>
              </a:solidFill>
              <a:latin typeface="Century Old Style"/>
            </a:endParaRPr>
          </a:p>
        </p:txBody>
      </p:sp>
      <p:sp>
        <p:nvSpPr>
          <p:cNvPr id="80" name="PlaceHolder 2"/>
          <p:cNvSpPr>
            <a:spLocks noGrp="1"/>
          </p:cNvSpPr>
          <p:nvPr>
            <p:ph/>
          </p:nvPr>
        </p:nvSpPr>
        <p:spPr>
          <a:xfrm>
            <a:off x="685800" y="1828800"/>
            <a:ext cx="7772400" cy="464832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of bulimia are somewhat unclear at this tim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occupation with food and have a persistent urge to eat</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se with bulimia seem to have more affective disturbance, particularly depression, than most peopl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er than normal level of substance abuse, and some report a history of sexual abus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ilar to anorexia, bulimia probably stems in part from cultural and social pressures to be thin</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eatment of Bulimia Nervosa</a:t>
            </a:r>
            <a:endParaRPr b="1" lang="en-US" sz="3600" spc="-1" strike="noStrike">
              <a:solidFill>
                <a:srgbClr val="ffffff"/>
              </a:solidFill>
              <a:latin typeface="Century Old Style"/>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 evaluation of the individual should be undertaken at the outset.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ruptures in the gastric or esophageal areas due to vomiting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bolic complications from either the vomiting or the abuse of laxatives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ious dental complications include erosion of tooth enamel from highly acidic vomi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aches to bulimia have included medication and various combinations of education, counseling, and behavior management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depressants are helpful in reducing binge eating, despite a substantial relapse rate when discontinued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ous strategies are used in behavioral therapy approaches</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in self-monitoring</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gnitive-behavioral therapies</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behavioral management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ing the disordered eating and then examining connections between certain cognitions and eating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f-monitoring training and management of self-reinforcement contingencies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pse prevention and the use of multiple interventions Obesity</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23960"/>
            <a:ext cx="7772400" cy="9104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Old Style"/>
              </a:rPr>
              <a:t>The Motivation of Hunger and Eating: Biological Factors</a:t>
            </a:r>
            <a:endParaRPr b="1" lang="en-US" sz="2800" spc="-1" strike="noStrike">
              <a:solidFill>
                <a:srgbClr val="ffffff"/>
              </a:solidFill>
              <a:latin typeface="Century Old Style"/>
            </a:endParaRPr>
          </a:p>
        </p:txBody>
      </p:sp>
      <p:sp>
        <p:nvSpPr>
          <p:cNvPr id="52" name=""/>
          <p:cNvSpPr txBox="1"/>
          <p:nvPr/>
        </p:nvSpPr>
        <p:spPr>
          <a:xfrm>
            <a:off x="685800" y="1980720"/>
            <a:ext cx="7772400" cy="4573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Brain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Lateral (destroy) … &lt; less eating </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 </a:t>
            </a:r>
            <a:r>
              <a:rPr b="1" lang="en-US" sz="2800" spc="-1" strike="noStrike">
                <a:solidFill>
                  <a:srgbClr val="ffffff"/>
                </a:solidFill>
                <a:latin typeface="Formata Medium"/>
              </a:rPr>
              <a:t>Ventromedial (destroy) … &gt;overeating</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Paraventricular nucleus…modulates hunger</a:t>
            </a:r>
            <a:endParaRPr b="1" lang="en-US" sz="28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Glucose and digestive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Glucostatic theory</a:t>
            </a:r>
            <a:endParaRPr b="1" lang="en-US" sz="28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Hormonal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Insulin and leptin</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besity</a:t>
            </a:r>
            <a:endParaRPr b="1" lang="en-US" sz="3600" spc="-1" strike="noStrike">
              <a:solidFill>
                <a:srgbClr val="ffffff"/>
              </a:solidFill>
              <a:latin typeface="Century Old Style"/>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ese individuals have excess body fat and weigh approximately 30% more than is considered normal</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 10% of preschool children are obes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7% of ages 6-11 are obes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2% of teenager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alence especially among children has increased substantially in last 15 year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hildhood Obesity </a:t>
            </a:r>
            <a:endParaRPr b="1" lang="en-US" sz="3800" spc="-1" strike="noStrike">
              <a:solidFill>
                <a:srgbClr val="ffffff"/>
              </a:solidFill>
              <a:latin typeface="Century Old Style"/>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ous health risk because it usually precedes a lifelong battle with obesit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maladjustment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 of Obesity</a:t>
            </a:r>
            <a:endParaRPr b="1" lang="en-US" sz="3800" spc="-1" strike="noStrike">
              <a:solidFill>
                <a:srgbClr val="ffffff"/>
              </a:solidFill>
              <a:latin typeface="Century Old Style"/>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ories vary and often appear to be in conflict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e view hereditary or constitutional condition</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ologically, there seem to be two types of obesity</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plastic obesity occurs when an individual has an abnormally high number of fat cells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trophic obesity occurs when individuals are overweight primarily because of extremely enlarged fat cells.</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Century Old Style"/>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logical or physiological explanations feature the inheritance of a tendency toward obesity or slimnes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view learned behavior as an important cause of obesity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suggests that obesity in youngsters does predict adult obes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grossly overweight has psychological con-sequences as well as physical dangers </a:t>
            </a:r>
            <a:endParaRPr b="1" i="1" lang="en-US" sz="3200" spc="-1" strike="noStrike">
              <a:solidFill>
                <a:srgbClr val="ffffff"/>
              </a:solidFill>
              <a:latin typeface="Century Old Style"/>
            </a:endParaRPr>
          </a:p>
          <a:p>
            <a:pPr lvl="1" marL="743040" indent="-285840">
              <a:lnSpc>
                <a:spcPct val="96000"/>
              </a:lnSpc>
              <a:spcBef>
                <a:spcPts val="1199"/>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physical self-perceptions </a:t>
            </a:r>
            <a:endParaRPr b="1" lang="en-US" sz="2800" spc="-1" strike="noStrike">
              <a:solidFill>
                <a:srgbClr val="ffffff"/>
              </a:solidFill>
              <a:latin typeface="Formata Medium"/>
            </a:endParaRPr>
          </a:p>
          <a:p>
            <a:pPr lvl="1" marL="743040" indent="-285840">
              <a:lnSpc>
                <a:spcPct val="96000"/>
              </a:lnSpc>
              <a:spcBef>
                <a:spcPts val="1199"/>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re lower on general self-worth than non-obese peer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Obesity</a:t>
            </a:r>
            <a:endParaRPr b="1" lang="en-US" sz="3800" spc="-1" strike="noStrike">
              <a:solidFill>
                <a:srgbClr val="ffffff"/>
              </a:solidFill>
              <a:latin typeface="Century Old Style"/>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tions and treatments for being overweight that might seem uncomplicated on the surface, often fail in the context of chronic obesity</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havioral therapies</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treatment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must be approached in a systematic fashion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disciplinary team (perhaps consisting of a physician, nutritionist, psychologist, and exercise therapist) is more effective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bility to monitor one’s own behavior is importan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harmacological Treatments</a:t>
            </a:r>
            <a:endParaRPr b="1" lang="en-US" sz="3800" spc="-1" strike="noStrike">
              <a:solidFill>
                <a:srgbClr val="ffffff"/>
              </a:solidFill>
              <a:latin typeface="Century Old Style"/>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ugs that suppress appetite often have a number of undesirable or intolerable side effects </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t weight is rapidly regained once the medication is discontinued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phetamine-based medications that suppress appetite, increase activity, and heighten mood have been popular in both over-the-counter and prescription forms </a:t>
            </a:r>
            <a:endParaRPr b="1" lang="en-US" sz="2400" spc="-1" strike="noStrike">
              <a:solidFill>
                <a:srgbClr val="ffffff"/>
              </a:solidFill>
              <a:latin typeface="Formata Medium"/>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benefits may be short-lived</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urgical Interventions </a:t>
            </a:r>
            <a:endParaRPr b="1" lang="en-US" sz="3800" spc="-1" strike="noStrike">
              <a:solidFill>
                <a:srgbClr val="ffffff"/>
              </a:solidFill>
              <a:latin typeface="Century Old Style"/>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trict stomach capacity, either by stapling procedures or by inserting balloon-type devices into the gastric cavity</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pproaches should be employed only in the most severe cases when other therapies have been unsuccessful</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Behavioral interventions</a:t>
            </a:r>
            <a:endParaRPr b="1" lang="en-US" sz="3800" spc="-1" strike="noStrike">
              <a:solidFill>
                <a:srgbClr val="ffffff"/>
              </a:solidFill>
              <a:latin typeface="Century Old Style"/>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faceted behavioral treatment successfully treated obese children</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only age group for whom weight-reduction programs of any type have produced lasting benefi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programs tend to focus on managing eating behavior rather than attempting to change personal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0" y="6567480"/>
            <a:ext cx="91440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ure 9.3  The hypothalamus</a:t>
            </a:r>
            <a:endParaRPr b="0" lang="en-US" sz="1300" spc="-1" strike="noStrike">
              <a:solidFill>
                <a:srgbClr val="ffffff"/>
              </a:solidFill>
              <a:latin typeface="Times New Roman"/>
            </a:endParaRPr>
          </a:p>
        </p:txBody>
      </p:sp>
      <p:pic>
        <p:nvPicPr>
          <p:cNvPr id="54" name="Picture 4" descr="0903"/>
          <p:cNvPicPr/>
          <p:nvPr/>
        </p:nvPicPr>
        <p:blipFill>
          <a:blip r:embed="rId1"/>
          <a:stretch/>
        </p:blipFill>
        <p:spPr>
          <a:xfrm>
            <a:off x="1407960" y="60480"/>
            <a:ext cx="6348600" cy="65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monitoring capacity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ese people frequently do not realize the unsuitability of the foods they consume and how quickly and often they eat</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f-monitoring allows the person to become conscious of behaviors that contribute to undesirable eating, which can then be targeted for modification</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oileting Problems</a:t>
            </a:r>
            <a:endParaRPr b="1" lang="en-US" sz="3800" spc="-1" strike="noStrike">
              <a:solidFill>
                <a:srgbClr val="ffffff"/>
              </a:solidFill>
              <a:latin typeface="Century Old Style"/>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presis: Abnormal or unacceptable patterns of fecal expulsion by children beyond the age of toilet training and lacking organic patholog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uresis:  Recurrent bed-wetting or wetting of clothing at least twice a week for 3 months, diagnosed in children over 5</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ncopresis</a:t>
            </a:r>
            <a:endParaRPr b="1" lang="en-US" sz="3800" spc="-1" strike="noStrike">
              <a:solidFill>
                <a:srgbClr val="ffffff"/>
              </a:solidFill>
              <a:latin typeface="Century Old Style"/>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tentive encopresis: an excessive retention of fecal material</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retentive encopresis: uncontrolled expulsion of feces (incontinence) resulting in soiled clothing and bedding</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ontinuous, or secondary, encopresis</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ous, or primary, encopresis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s are very important in trying to establish causation and devise treatment</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Encopresis</a:t>
            </a:r>
            <a:endParaRPr b="1" lang="en-US" sz="3800" spc="-1" strike="noStrike">
              <a:solidFill>
                <a:srgbClr val="ffffff"/>
              </a:solidFill>
              <a:latin typeface="Century Old Style"/>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sychoanalytic</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edical treatment </a:t>
            </a:r>
            <a:endParaRPr b="1" lang="en-US" sz="3800" spc="-1" strike="noStrike">
              <a:solidFill>
                <a:srgbClr val="ffffff"/>
              </a:solidFill>
              <a:latin typeface="Century Old Style"/>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hasize direct physical control of fecal matter using enemas, laxatives, and stool softeners along with modified diet and sometimes pediatric counseling</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ome cases, medication employed to control bowel actions </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view encopresis as a combined physiological and behavioral problem</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modal treatments may include behavioral shaping as well as the physical control techniques mentioned above</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nuresis</a:t>
            </a:r>
            <a:endParaRPr b="1" lang="en-US" sz="3800" spc="-1" strike="noStrike">
              <a:solidFill>
                <a:srgbClr val="ffffff"/>
              </a:solidFill>
              <a:latin typeface="Century Old Style"/>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SM-IV-TR cites prevalence for 5 – 10% for children at 5 years of age, 3 – 5% by age 10 and a lingering 1% of 15 year old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clinicians view urinary incontinence after about 3 to 5 years of age as a proble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Functional Nocturnal Enuresis </a:t>
            </a:r>
            <a:endParaRPr b="1" lang="en-US" sz="3800" spc="-1" strike="noStrike">
              <a:solidFill>
                <a:srgbClr val="ffffff"/>
              </a:solidFill>
              <a:latin typeface="Century Old Style"/>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happen during the da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 between sleep and urinary incontinence</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able attention given to the relationship between enuresis and sleep pattern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literature relates sleep cycles and sleep abnormalities to enuresi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he Psychodynamic </a:t>
            </a:r>
            <a:endParaRPr b="1" lang="en-US" sz="3800" spc="-1" strike="noStrike">
              <a:solidFill>
                <a:srgbClr val="ffffff"/>
              </a:solidFill>
              <a:latin typeface="Century Old Style"/>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prets enuresis as a symptom of an inner conflict</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ness of psychoanalytic treatment has been poorly documented, and there is little research evidence for a success rate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edical explanations </a:t>
            </a:r>
            <a:endParaRPr b="1" lang="en-US" sz="3800" spc="-1" strike="noStrike">
              <a:solidFill>
                <a:srgbClr val="ffffff"/>
              </a:solidFill>
              <a:latin typeface="Century Old Style"/>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developmental or maturational lag, genetic influences, abnormalities of the urinary tract, and a deficit in cortical control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a:t>
            </a:r>
            <a:endParaRPr b="1" lang="en-US" sz="3800" spc="-1" strike="noStrike">
              <a:solidFill>
                <a:srgbClr val="ffffff"/>
              </a:solidFill>
              <a:latin typeface="Century Old Style"/>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s have been used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voxamine is one popular alternative</a:t>
            </a:r>
            <a:endParaRPr b="1" lang="en-US" sz="2800" spc="-1" strike="noStrike">
              <a:solidFill>
                <a:srgbClr val="ffffff"/>
              </a:solidFill>
              <a:latin typeface="Formata Medium"/>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approaches focus on the environmental contingencies related to urination.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ine alarms viewed as treatment of choice when combined with other treatments</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Formata Medium"/>
                <a:hlinkClick r:id="rId1"/>
              </a:rPr>
              <a:t>http://bedwettingstore.com/malem-ultimate-bedwetting-alarm.html</a:t>
            </a:r>
            <a:endParaRPr b="1" lang="en-US" sz="16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pic>
        <p:nvPicPr>
          <p:cNvPr id="127" name="main_image" descr="Malem Ultimate Bedwetting Alarm"/>
          <p:cNvPicPr/>
          <p:nvPr/>
        </p:nvPicPr>
        <p:blipFill>
          <a:blip r:embed="rId2"/>
          <a:stretch/>
        </p:blipFill>
        <p:spPr>
          <a:xfrm>
            <a:off x="457200" y="22860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23960"/>
            <a:ext cx="7772400" cy="9104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Old Style"/>
              </a:rPr>
              <a:t>The Motivation of Hunger and Eating: Environmental Factors</a:t>
            </a:r>
            <a:endParaRPr b="1" lang="en-US" sz="2800" spc="-1" strike="noStrike">
              <a:solidFill>
                <a:srgbClr val="ffffff"/>
              </a:solidFill>
              <a:latin typeface="Century Old Style"/>
            </a:endParaRPr>
          </a:p>
        </p:txBody>
      </p:sp>
      <p:sp>
        <p:nvSpPr>
          <p:cNvPr id="56" name=""/>
          <p:cNvSpPr txBox="1"/>
          <p:nvPr/>
        </p:nvSpPr>
        <p:spPr>
          <a:xfrm>
            <a:off x="685800" y="1980720"/>
            <a:ext cx="7772400" cy="4619880"/>
          </a:xfrm>
          <a:prstGeom prst="rect">
            <a:avLst/>
          </a:prstGeom>
          <a:noFill/>
          <a:ln w="0">
            <a:noFill/>
          </a:ln>
        </p:spPr>
        <p:txBody>
          <a:bodyPr anchor="t">
            <a:normAutofit/>
          </a:bodyPr>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ood availability and related cues</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Palatability</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Quantity available</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Variety</a:t>
            </a:r>
            <a:endParaRPr b="1" lang="en-US" sz="2800" spc="-1" strike="noStrike">
              <a:solidFill>
                <a:srgbClr val="ffffff"/>
              </a:solidFill>
              <a:latin typeface="Formata Medium"/>
            </a:endParaRPr>
          </a:p>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Learned preferences and habits</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Classical conditioning</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Observational learning </a:t>
            </a:r>
            <a:endParaRPr b="1" lang="en-US" sz="2800" spc="-1" strike="noStrike">
              <a:solidFill>
                <a:srgbClr val="ffffff"/>
              </a:solidFill>
              <a:latin typeface="Formata Medium"/>
            </a:endParaRPr>
          </a:p>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tress </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Link between heightened arousal/negative emotion and overeating</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leep Disorders</a:t>
            </a:r>
            <a:endParaRPr b="1" lang="en-US" sz="3800" spc="-1" strike="noStrike">
              <a:solidFill>
                <a:srgbClr val="ffffff"/>
              </a:solidFill>
              <a:latin typeface="Century Old Style"/>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occur in 30-45% of very young children</a:t>
            </a: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somnias (amount, quality, timing)</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somnias (abnormal behavior or physiological events)</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ccff"/>
                </a:solidFill>
                <a:uFillTx/>
                <a:latin typeface="Century Old Style"/>
                <a:hlinkClick r:id="rId1"/>
              </a:rPr>
              <a:t>http://www.youtube.com/watch?v=9VCIY-UvcII</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ormal Sleep Cycle</a:t>
            </a:r>
            <a:endParaRPr b="1" lang="en-US" sz="3800" spc="-1" strike="noStrike">
              <a:solidFill>
                <a:srgbClr val="ffffff"/>
              </a:solidFill>
              <a:latin typeface="Century Old Style"/>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distinct states</a:t>
            </a:r>
            <a:endParaRPr b="1" i="1" lang="en-US" sz="32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 sleep: period during which rapid eye movements occur and an individual dreams</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REM sleep: lacks rapid eye movements, made up of 4 distinguishable stages </a:t>
            </a:r>
            <a:endParaRPr b="1" lang="en-US" sz="2800" spc="-1" strike="noStrike">
              <a:solidFill>
                <a:srgbClr val="ffffff"/>
              </a:solidFill>
              <a:latin typeface="Formata Medium"/>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1 : transitional period between wakefulness and sleep</a:t>
            </a:r>
            <a:endParaRPr b="1" lang="en-US" sz="2400" spc="-1" strike="noStrike">
              <a:solidFill>
                <a:srgbClr val="ffffff"/>
              </a:solidFill>
              <a:latin typeface="Times New Roman"/>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s 2, 3, and 4: characterized by differences in amount and type of brain-wave activity, generally spoken of as increasing in “depth” of sleep</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arasomnias </a:t>
            </a:r>
            <a:endParaRPr b="1" lang="en-US" sz="3800" spc="-1" strike="noStrike">
              <a:solidFill>
                <a:srgbClr val="ffffff"/>
              </a:solidFill>
              <a:latin typeface="Century Old Style"/>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ruptions associated with specific parts of the sleep cycle, stages of sleep, or sleep-wake shif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ation of physiological systems at inappropriate times during the sleep-wake cycle”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e to cognitive process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ightmares and Night Terrors</a:t>
            </a:r>
            <a:endParaRPr b="1" lang="en-US" sz="3800" spc="-1" strike="noStrike">
              <a:solidFill>
                <a:srgbClr val="ffffff"/>
              </a:solidFill>
              <a:latin typeface="Century Old Style"/>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orders in the parasomnia category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some children, sleep disturbances are frequent, persistent, and intense, and are then considered serious enough to be considered disorder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d to happen at different times of night and during different sleep stages. from ordinary dream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20348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ifferences between nightmares and night terrors</a:t>
            </a:r>
            <a:endParaRPr b="1" lang="en-US" sz="3800" spc="-1" strike="noStrike">
              <a:solidFill>
                <a:srgbClr val="ffffff"/>
              </a:solidFill>
              <a:latin typeface="Century Old Style"/>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experiencing night terrors typically sleep through the episode, even though their behavior is extremely agitat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yes are often wide open, as though they were staring at something in terror; they make grimaces and exhibit considerable physical movement, sometimes running about the room frantically; they may also shout and scream.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nightmares, Children’s movements and verbalization much more subdued, typically restricted to moaning and slight movements in bed</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ghtmares followed by a period during which the child is awake, recognizes people and surroundings, can provide a coherent account of what has transpired, and can remember the contents of the dream</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ght terrors followed by instant and peaceful sleep, lack of recognition of people and surroundings, and frequently, complete amnesia regarding both contents and occurrence</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 of nightmares and night terrors </a:t>
            </a:r>
            <a:endParaRPr b="1" lang="en-US" sz="3800" spc="-1" strike="noStrike">
              <a:solidFill>
                <a:srgbClr val="ffffff"/>
              </a:solidFill>
              <a:latin typeface="Century Old Style"/>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ly unknown at this time</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ories</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xual impulses that are not understood by the individual or experiences in a previous life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ociated with a variety of other conditions such as bronchial asthma, milk intolerance, night-time feeding, and genetic disposition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causes appear to be </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7772400" cy="120348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leep-Walking Disorder (Somnambulism)</a:t>
            </a:r>
            <a:endParaRPr b="1" lang="en-US" sz="3800" spc="-1" strike="noStrike">
              <a:solidFill>
                <a:srgbClr val="ffffff"/>
              </a:solidFill>
              <a:latin typeface="Century Old Style"/>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nambulism and night terrors have a number of common features; not unusual to find both problems in the same child</a:t>
            </a: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reate serious problems since children can place themselves in danger by walking in unsafe places such as balconies and stairways</a:t>
            </a: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es are not functioning in a manner that would protect them from falling or other types of accidents</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ten attributed to some type of emotional stres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has followed several approaches with varying degrees of success</a:t>
            </a:r>
            <a:endParaRPr b="1" i="1" lang="en-US" sz="3200" spc="-1" strike="noStrike">
              <a:solidFill>
                <a:srgbClr val="ffffff"/>
              </a:solidFill>
              <a:latin typeface="Century Old Style"/>
            </a:endParaRPr>
          </a:p>
          <a:p>
            <a:pPr lvl="1" marL="74304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Eating Disorders</a:t>
            </a:r>
            <a:endParaRPr b="1" lang="en-US" sz="3800" spc="-1" strike="noStrike">
              <a:solidFill>
                <a:srgbClr val="ffffff"/>
              </a:solidFill>
              <a:latin typeface="Century Old Style"/>
            </a:endParaRPr>
          </a:p>
        </p:txBody>
      </p:sp>
      <p:sp>
        <p:nvSpPr>
          <p:cNvPr id="58" name=""/>
          <p:cNvSpPr txBox="1"/>
          <p:nvPr/>
        </p:nvSpPr>
        <p:spPr>
          <a:xfrm>
            <a:off x="1143000" y="1905120"/>
            <a:ext cx="7772400" cy="57672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Societal contributions </a:t>
            </a:r>
            <a:endParaRPr b="1" i="1" lang="en-US" sz="28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What messages do we get from society?</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How are they sent?</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Is it the same for women and men?</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How do you feel looking at the ads, videos, movies etc.?</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Ultimate Female</a:t>
            </a:r>
            <a:r>
              <a:rPr b="1" lang="en-US" sz="2400" spc="-1" strike="noStrike">
                <a:solidFill>
                  <a:srgbClr val="ffffff"/>
                </a:solidFill>
                <a:latin typeface="Formata Medium"/>
              </a:rPr>
              <a:t>	</a:t>
            </a:r>
            <a:r>
              <a:rPr b="1" lang="en-US" sz="2400" spc="-1" strike="noStrike">
                <a:solidFill>
                  <a:srgbClr val="ffffff"/>
                </a:solidFill>
                <a:latin typeface="Formata Medium"/>
              </a:rPr>
              <a:t>Ultimate Male</a:t>
            </a:r>
            <a:endParaRPr b="1" lang="en-US" sz="24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Video Clip:</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QSqtVDIwnHo</a:t>
            </a: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yssomnias</a:t>
            </a:r>
            <a:endParaRPr b="1" lang="en-US" sz="3800" spc="-1" strike="noStrike">
              <a:solidFill>
                <a:srgbClr val="ffffff"/>
              </a:solidFill>
              <a:latin typeface="Century Old Style"/>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orders in which the affected individual has significant and chronic difficulty related to the “amount, quality, or timing of sleep”</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imary Insomnia</a:t>
            </a:r>
            <a:endParaRPr b="1" lang="en-US" sz="3800" spc="-1" strike="noStrike">
              <a:solidFill>
                <a:srgbClr val="ffffff"/>
              </a:solidFill>
              <a:latin typeface="Century Old Style"/>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olves a problem in falling asleep that has a duration of at least a month, causes substantial impairment in several areas of functioning, and is not related to substance effects or a general medical condition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ms to begin in the early adult years and is relatively rare during childhood or adolescence</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a:t>
            </a:r>
            <a:endParaRPr b="1" lang="en-US" sz="3800" spc="-1" strike="noStrike">
              <a:solidFill>
                <a:srgbClr val="ffffff"/>
              </a:solidFill>
              <a:latin typeface="Century Old Style"/>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xiety or worrying is a significant contributor to insomnia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evidence suggests that stress, anxiety, and panic attacks are more frequent among individuals with serious insomnia condition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s</a:t>
            </a:r>
            <a:endParaRPr b="1" lang="en-US" sz="3800" spc="-1" strike="noStrike">
              <a:solidFill>
                <a:srgbClr val="ffffff"/>
              </a:solidFill>
              <a:latin typeface="Century Old Style"/>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 widely employed, but with mixed resul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pharmacological treatments have the advantage of avoiding harmful side effects and placing the patient in greater control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behavioral treatment packages have had high success rate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arcolepsy</a:t>
            </a:r>
            <a:endParaRPr b="1" lang="en-US" sz="3800" spc="-1" strike="noStrike">
              <a:solidFill>
                <a:srgbClr val="ffffff"/>
              </a:solidFill>
              <a:latin typeface="Century Old Style"/>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 in which individuals encounter “sleep attacks” at times when they are trying to stay awake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ten thought of as excessive sleep, but should more correctly be viewed as inappropriate sleep</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 of Narcolepsy </a:t>
            </a:r>
            <a:endParaRPr b="1" lang="en-US" sz="3800" spc="-1" strike="noStrike">
              <a:solidFill>
                <a:srgbClr val="ffffff"/>
              </a:solidFill>
              <a:latin typeface="Century Old Style"/>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ly eluded researchers to date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factor that has been identified relates to disturbances of REM sleep</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Narcolepsy </a:t>
            </a:r>
            <a:endParaRPr b="1" lang="en-US" sz="3800" spc="-1" strike="noStrike">
              <a:solidFill>
                <a:srgbClr val="ffffff"/>
              </a:solidFill>
              <a:latin typeface="Century Old Style"/>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drug therap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pharmacological treatments, such as behavior management and diet alteration, are only recently getting attention in the literature, and considerable research is needed to establish their effectivenes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peech Disorders</a:t>
            </a:r>
            <a:endParaRPr b="1" lang="en-US" sz="3800" spc="-1" strike="noStrike">
              <a:solidFill>
                <a:srgbClr val="ffffff"/>
              </a:solidFill>
              <a:latin typeface="Century Old Style"/>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ayed Speech</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nological (articulation) disorder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ttering (fluency disorder)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tions</a:t>
            </a:r>
            <a:endParaRPr b="1" lang="en-US" sz="3800" spc="-1" strike="noStrike">
              <a:solidFill>
                <a:srgbClr val="ffffff"/>
              </a:solidFill>
              <a:latin typeface="Century Old Style"/>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ective speech refers to speech behavior that is sufficiently deviant from normal or accepted speaking patterns that it attracts attention and adversely affects communication for either the speaker or the listener</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layed Speech</a:t>
            </a:r>
            <a:endParaRPr b="1" lang="en-US" sz="3800" spc="-1" strike="noStrike">
              <a:solidFill>
                <a:srgbClr val="ffffff"/>
              </a:solidFill>
              <a:latin typeface="Century Old Style"/>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ilure of speech to develop at the expected age </a:t>
            </a:r>
            <a:endParaRPr b="1" i="1" lang="en-US" sz="32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hildren with delayed speech develop little or no expressive speech beyond vocalizations that are not interpretable as conventional language</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ther children with delayed speech can speak a little, but their proficiency is limited for their age and they mainly use nouns without qualifying or auxiliary word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Anorexia Nervousa</a:t>
            </a:r>
            <a:endParaRPr b="1" lang="en-US" sz="3800" spc="-1" strike="noStrike">
              <a:solidFill>
                <a:srgbClr val="ffffff"/>
              </a:solidFill>
              <a:latin typeface="Century Old Style"/>
            </a:endParaRPr>
          </a:p>
        </p:txBody>
      </p:sp>
      <p:sp>
        <p:nvSpPr>
          <p:cNvPr id="60" name=""/>
          <p:cNvSpPr txBox="1"/>
          <p:nvPr/>
        </p:nvSpPr>
        <p:spPr>
          <a:xfrm>
            <a:off x="685800" y="1981080"/>
            <a:ext cx="7772400" cy="4114800"/>
          </a:xfrm>
          <a:prstGeom prst="rect">
            <a:avLst/>
          </a:prstGeom>
          <a:noFill/>
          <a:ln w="0">
            <a:noFill/>
          </a:ln>
        </p:spPr>
        <p:txBody>
          <a:bodyPr anchor="t">
            <a:normAutofit fontScale="94000"/>
          </a:bodyPr>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Eating disorder that involves extreme weight loss</a:t>
            </a:r>
            <a:endParaRPr b="1" i="1" lang="en-US" sz="2800" spc="-1" strike="noStrike">
              <a:solidFill>
                <a:srgbClr val="ffffff"/>
              </a:solidFill>
              <a:latin typeface="Century Old Style"/>
            </a:endParaRPr>
          </a:p>
          <a:p>
            <a:pPr lvl="1" marL="698400" indent="-268560">
              <a:lnSpc>
                <a:spcPct val="80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Below 15% of their ideal body weight</a:t>
            </a:r>
            <a:endParaRPr b="1" lang="en-US" sz="2400" spc="-1" strike="noStrike">
              <a:solidFill>
                <a:srgbClr val="ffffff"/>
              </a:solidFill>
              <a:latin typeface="Formata Medium"/>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Weight loss is “badge of achievement”</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Restricts foods even though not overweight</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Distorted body image</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Preoccupied with food, calories, nutrition and cooking</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Exercise obsessively</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Weighs self with abnormal frequency</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VS2mfWDryPE&amp;feature=related</a:t>
            </a:r>
            <a:endParaRPr b="1" i="1" lang="en-US" sz="2000" spc="-1" strike="noStrike">
              <a:solidFill>
                <a:srgbClr val="ffffff"/>
              </a:solidFill>
              <a:latin typeface="Century Old Style"/>
            </a:endParaRPr>
          </a:p>
          <a:p>
            <a:pPr marL="322200" indent="-322200">
              <a:lnSpc>
                <a:spcPct val="80000"/>
              </a:lnSpc>
              <a:spcBef>
                <a:spcPts val="201"/>
              </a:spcBef>
              <a:spcAft>
                <a:spcPts val="300"/>
              </a:spcAft>
              <a:buClr>
                <a:srgbClr val="000000"/>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000000"/>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Speech Delays</a:t>
            </a:r>
            <a:endParaRPr b="1" lang="en-US" sz="3800" spc="-1" strike="noStrike">
              <a:solidFill>
                <a:srgbClr val="ffffff"/>
              </a:solidFill>
              <a:latin typeface="Century Old Style"/>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stem from experience deprivation,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be the result of sensory deprivation from an anatomical defect such as a hearing los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logical problems (e.g., cerebral pals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ous emotional disturbances such as childhood schizophrenia and autism and less severe problems such as negativis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egativism </a:t>
            </a:r>
            <a:endParaRPr b="1" lang="en-US" sz="3800" spc="-1" strike="noStrike">
              <a:solidFill>
                <a:srgbClr val="ffffff"/>
              </a:solidFill>
              <a:latin typeface="Century Old Style"/>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hildren are developing speech, great pressure is being exerted on them by their parents to learn many other skills as well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ands exceed some children’s tolerance level, and they may be unable to perform as expect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tain children respond negatively to such a situation by refusing to perfor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form of rebellion, the reward contingencies in the environment must be altered</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be necessary to alter behavior patterns that are only indirectly related to the speech dela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xperience Deprivation</a:t>
            </a:r>
            <a:endParaRPr b="1" lang="en-US" sz="3800" spc="-1" strike="noStrike">
              <a:solidFill>
                <a:srgbClr val="ffffff"/>
              </a:solidFill>
              <a:latin typeface="Century Old Style"/>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mental contingencies must exist in a configuration that will permit and promote children’s learning to speak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households that do not promote language acquisition, and significantly delayed child speech may result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does not have much exposure to modeling of speech and perhaps receives little reinforcement for speaking and vocalizing </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Other Circumstances </a:t>
            </a:r>
            <a:endParaRPr b="1" lang="en-US" sz="3800" spc="-1" strike="noStrike">
              <a:solidFill>
                <a:srgbClr val="ffffff"/>
              </a:solidFill>
              <a:latin typeface="Century Old Style"/>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ild with normal hearing capacity is born to deaf paren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occur in homes where there is a great deal of verbalization and noise occurring in a very confused and unsystematic fashion</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Speech Delays</a:t>
            </a:r>
            <a:endParaRPr b="1" lang="en-US" sz="3800" spc="-1" strike="noStrike">
              <a:solidFill>
                <a:srgbClr val="ffffff"/>
              </a:solidFill>
              <a:latin typeface="Century Old Style"/>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ch delay caused by experience deprivation can be treated by using fundamental principles of learning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honological Disorders</a:t>
            </a:r>
            <a:endParaRPr b="1" lang="en-US" sz="3800" spc="-1" strike="noStrike">
              <a:solidFill>
                <a:srgbClr val="ffffff"/>
              </a:solidFill>
              <a:latin typeface="Century Old Style"/>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iously classified as articulation disorder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frequently occurring category of all speech disorders according to DSM-IV-TR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tuttering</a:t>
            </a:r>
            <a:endParaRPr b="1" lang="en-US" sz="3800" spc="-1" strike="noStrike">
              <a:solidFill>
                <a:srgbClr val="ffffff"/>
              </a:solidFill>
              <a:latin typeface="Century Old Style"/>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 of fluency and rhythm of speech with intermittent blocking, repetition, or prolongation of sounds, syllables, words, or phrase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pite the fact that stuttering is noticed, it is among the least prevalent of speech disorder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Stuttering</a:t>
            </a:r>
            <a:endParaRPr b="1" lang="en-US" sz="3800" spc="-1" strike="noStrike">
              <a:solidFill>
                <a:srgbClr val="ffffff"/>
              </a:solidFill>
              <a:latin typeface="Centur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ttering may have a variety of causes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motional or neurotic problem wherein stuttering is a behavioral manifestation of some emotional difficulty</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itutional or neurological problem</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ing perspective</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a:t>
            </a:r>
            <a:endParaRPr b="1" lang="en-US" sz="3800" spc="-1" strike="noStrike">
              <a:solidFill>
                <a:srgbClr val="ffffff"/>
              </a:solidFill>
              <a:latin typeface="Century Old Style"/>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therapy met with limited succes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treatment procedures have focused on the rhythm process of speech, for example,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of stuttering increasingly included behavioral therapy that attempts to teach the affected individual fluent speaking patterns Summar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96960"/>
            <a:ext cx="7772400" cy="96876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 characteristics often observed in victims of anorexia nervosa</a:t>
            </a:r>
            <a:endParaRPr b="1" lang="en-US" sz="3000" spc="-1" strike="noStrike">
              <a:solidFill>
                <a:srgbClr val="ffffff"/>
              </a:solidFill>
              <a:latin typeface="Century Old Style"/>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ten between 14 and 18 years old</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femal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have perfectionist tendencie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e a real risk of death</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ocial History of Anorexia Nervosa</a:t>
            </a:r>
            <a:endParaRPr b="1" lang="en-US" sz="3800" spc="-1" strike="noStrike">
              <a:solidFill>
                <a:srgbClr val="ffffff"/>
              </a:solidFill>
              <a:latin typeface="Century Old Style"/>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0s, “flapper” styles - eating disorders increas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ing prevalence of restrictive eating disorders in the 20th century, in the richer, more industrialized countries with thriving fashion industrie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e anorexia nervosa extremely rare in economically deprived groups and during wars and famin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96960"/>
            <a:ext cx="7772400" cy="96876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ersonality Traits Associated with Anorexia Nervosa</a:t>
            </a:r>
            <a:endParaRPr b="1" lang="en-US" sz="3000" spc="-1" strike="noStrike">
              <a:solidFill>
                <a:srgbClr val="ffffff"/>
              </a:solidFill>
              <a:latin typeface="Century Old Style"/>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fectionist tendencie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essive self-criticism, guilt, depression</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en by need to be thin </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a few had history of being overweight</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un in famili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4:18:09Z</dcterms:created>
  <dc:creator>DMONEYPENNY</dc:creator>
  <dc:description/>
  <dc:language>en-US</dc:language>
  <cp:lastModifiedBy>dshea</cp:lastModifiedBy>
  <dcterms:modified xsi:type="dcterms:W3CDTF">2012-06-27T19:41:58Z</dcterms:modified>
  <cp:revision>13</cp:revision>
  <dc:subject/>
  <dc:title>Chapter 14</dc:title>
</cp:coreProperties>
</file>