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move the slide</a:t>
            </a:r>
            <a:endParaRPr b="1" lang="en-US" sz="3800" spc="-1" strike="noStrike">
              <a:solidFill>
                <a:srgbClr val="ffffff"/>
              </a:solidFill>
              <a:latin typeface="Century Old Style"/>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21A38-C219-4194-9F97-76BAA5813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9C189-2B3F-47AE-BA2C-5DBA460B3BB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8196-C423-4846-8621-28AC232C694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n the early 1900s, Walter Cannon and A.L. Washburn hypothesized that there is an association between stomach contractions and the experience of hunger; Cannon hypothesized a causal relationship, yet people who have their stomachs removed still experience hunger.  This realization led to more complicated theories focusing on the brain, blood sugar, and hormon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search in the 1940s and 1950s showed that the hypothalamus, particularly two areas called the lateral hypothalamus (LH) and the ventromedial nucleus of the hypothalamus (VMH), are important in hunger. The LH was thought to be the hunger center, while the VMH was thought to be the satiety center. Subsequent research indicated that this was an oversimplified picture, although the LH and VMH are part of the hunger circuit, they are not the key element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araventricular nucleus of the hypothalamus has recently been implicated as another influential part of the hunger circui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Other research has focused on the role of blood glucose and digestive regulation on hunger; when blood sugar goes down, hunger goes up. Glucostatic theory proposed that fluctuations in blood glucose level are monitored in the brain by glucostats – neurons sensitive to glucose in the surrounding fluid. It appears likely that hunger is regulated, in part, through glucostatic mechanism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Hormones circulating in the blood also appear to be related to hunger.  Insulin, secreted by the pancreas, must be present for cells to use blood glucose. Increases in insulin increase hunger, and the mere sight and smell of food has been shown to increase insuli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Recently, a new hormone, leptin, has been discovered to be released from fat cells into the bloodstream. Leptin is believed to signal the hypothalamus about fat stores in the body, causing decreases in hunger when fat stores are high.</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0CAC9-5107-45CA-810A-510BE571487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Clearly, hunger is related to biology; however, it is also regulated by environmental factors.  Three factors, beyond biological hunger, exert significant influence over food consump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alatability: people eat more when the food available tastes good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Quantity available: people eat more when more food is put in front of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Variety: people eat more when there is a greater variety of foods available to th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People’s food preferences are influenced through classical conditioning, and their eating habits are acquired partly through observational learning.</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Finally, stress has been shown to be related to increased eating, with some research indicating that chronic dieters are more likely to respond to stress with eating. It is unclear whether stress induced eating is caused by physiological arousal or negative emotion. It is also unclear whether the effects of stress on hunger are direct or indirect.</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F0561-D2FC-43A6-BE8F-C01BAC851F4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1031"/>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E63EF-A8D6-4367-994E-BC564A7AC6E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79F79-02A2-43AC-A6EC-4E6B55B0A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6CC6A-38FD-4FC6-B332-A981CF8BA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74CECC-3487-4504-BD89-F8AB14D0B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6B6D67-64C7-47AB-8021-1A291B04B9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8F70C-787F-4CD6-B9DF-49617FE8F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BE3424-AA5F-4611-AE5C-B71E826E9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C66CD-E80E-4D12-839F-662B4DBD3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F925A2-25C1-4BDE-B65B-63066CFFB7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576360"/>
            <a:ext cx="7772400" cy="5590080"/>
          </a:xfrm>
          <a:prstGeom prst="rect">
            <a:avLst/>
          </a:prstGeom>
          <a:noFill/>
          <a:ln w="0">
            <a:noFill/>
          </a:ln>
        </p:spPr>
        <p:txBody>
          <a:bodyPr lIns="0" rIns="0" tIns="0" bIns="0" anchor="ctr">
            <a:noAutofit/>
          </a:bodyPr>
          <a:p>
            <a:pPr algn="ctr">
              <a:lnSpc>
                <a:spcPct val="80000"/>
              </a:lnSpc>
              <a:spcBef>
                <a:spcPts val="2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B99DE-3C77-43D4-94C2-1D1900BF98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263F7-651D-4451-89B3-ABDBD8D2C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149883-8F6E-4393-B845-5FE4363A20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Century Old Style"/>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nSpc>
                <a:spcPct val="80000"/>
              </a:lnSpc>
              <a:spcBef>
                <a:spcPts val="20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EE8A1-6C02-4E86-9E5F-3716B18943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76360"/>
            <a:ext cx="7772400" cy="12056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Click to edit the title text format</a:t>
            </a:r>
            <a:endParaRPr b="1" lang="en-US" sz="3800" spc="-1" strike="noStrike">
              <a:solidFill>
                <a:srgbClr val="ffffff"/>
              </a:solidFill>
              <a:latin typeface="Century Old Style"/>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Click to edit the outline text format</a:t>
            </a:r>
            <a:endParaRPr b="1" i="1" lang="en-US" sz="3200" spc="-1" strike="noStrike">
              <a:solidFill>
                <a:srgbClr val="ffffff"/>
              </a:solidFill>
              <a:latin typeface="Century Old Style"/>
            </a:endParaRPr>
          </a:p>
          <a:p>
            <a:pPr lvl="1" marL="743040" indent="-28584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cond Outline Level</a:t>
            </a:r>
            <a:endParaRPr b="1" i="1" lang="en-US" sz="3200" spc="-1" strike="noStrike">
              <a:solidFill>
                <a:srgbClr val="ffffff"/>
              </a:solidFill>
              <a:latin typeface="Century Old Style"/>
            </a:endParaRPr>
          </a:p>
          <a:p>
            <a:pPr lvl="2" marL="11430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Third Outline Level</a:t>
            </a:r>
            <a:endParaRPr b="1" i="1" lang="en-US" sz="3200" spc="-1" strike="noStrike">
              <a:solidFill>
                <a:srgbClr val="ffffff"/>
              </a:solidFill>
              <a:latin typeface="Century Old Style"/>
            </a:endParaRPr>
          </a:p>
          <a:p>
            <a:pPr lvl="3" marL="1600200" indent="-228600">
              <a:lnSpc>
                <a:spcPct val="80000"/>
              </a:lnSpc>
              <a:spcBef>
                <a:spcPts val="201"/>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urth Outline Level</a:t>
            </a:r>
            <a:endParaRPr b="1" i="1" lang="en-US" sz="3200" spc="-1" strike="noStrike">
              <a:solidFill>
                <a:srgbClr val="ffffff"/>
              </a:solidFill>
              <a:latin typeface="Century Old Style"/>
            </a:endParaRPr>
          </a:p>
          <a:p>
            <a:pPr lvl="4"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ifth Outline Level</a:t>
            </a:r>
            <a:endParaRPr b="1" i="1" lang="en-US" sz="3200" spc="-1" strike="noStrike">
              <a:solidFill>
                <a:srgbClr val="ffffff"/>
              </a:solidFill>
              <a:latin typeface="Century Old Style"/>
            </a:endParaRPr>
          </a:p>
          <a:p>
            <a:pPr lvl="5"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ixth Outline Level</a:t>
            </a:r>
            <a:endParaRPr b="1" i="1" lang="en-US" sz="3200" spc="-1" strike="noStrike">
              <a:solidFill>
                <a:srgbClr val="ffffff"/>
              </a:solidFill>
              <a:latin typeface="Century Old Style"/>
            </a:endParaRPr>
          </a:p>
          <a:p>
            <a:pPr lvl="6" marL="2057400" indent="-22860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eventh Outline Level</a:t>
            </a:r>
            <a:endParaRPr b="1" i="1" lang="en-US" sz="3200" spc="-1" strike="noStrike">
              <a:solidFill>
                <a:srgbClr val="ffffff"/>
              </a:solidFill>
              <a:latin typeface="Century Old Style"/>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9C444-B245-4352-A1C9-CC98EA7DB9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a:off x="2286000" y="1600200"/>
            <a:ext cx="609588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youtube.com/watch?v=f2M3WbBp4LA&amp;feature=related" TargetMode="External"/><Relationship Id="rId2" Type="http://schemas.openxmlformats.org/officeDocument/2006/relationships/hyperlink" Target="http://www.youtube.com/watch?v=4zuDNSzO3zA&amp;feature=channel_page" TargetMode="External"/><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bedwettingstore.com/malem-ultimate-bedwetting-alarm.html"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hyperlink" Target="http://www.youtube.com/watch?v=9VCIY-UvcII" TargetMode="External"/><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QSqtVDIwnHo" TargetMode="External"/><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VS2mfWDryPE&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2573280"/>
            <a:ext cx="7772400" cy="565200"/>
          </a:xfrm>
          <a:prstGeom prst="rect">
            <a:avLst/>
          </a:prstGeom>
          <a:noFill/>
          <a:ln w="0">
            <a:noFill/>
          </a:ln>
        </p:spPr>
        <p:txBody>
          <a:bodyPr anchor="ctr">
            <a:noAutofit/>
          </a:bodyPr>
          <a:p>
            <a:pPr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apter 14</a:t>
            </a:r>
            <a:endParaRPr b="1" lang="en-US" sz="3200" spc="-1" strike="noStrike">
              <a:solidFill>
                <a:srgbClr val="ffffff"/>
              </a:solidFill>
              <a:latin typeface="Century Old Style"/>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logy and Children’s Health</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ane Shea, Ph.D.</a:t>
            </a:r>
            <a:endParaRPr b="1" i="1" lang="en-US" sz="3200" spc="-1" strike="noStrike">
              <a:solidFill>
                <a:srgbClr val="ffffff"/>
              </a:solidFill>
              <a:latin typeface="Century Old Style"/>
            </a:endParaRPr>
          </a:p>
          <a:p>
            <a:pPr indent="0" algn="ctr">
              <a:lnSpc>
                <a:spcPct val="80000"/>
              </a:lnSpc>
              <a:spcBef>
                <a:spcPts val="2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ly Family Univer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Course of Anorexia Nervosa</a:t>
            </a:r>
            <a:endParaRPr b="1" lang="en-US" sz="3800" spc="-1" strike="noStrike">
              <a:solidFill>
                <a:srgbClr val="ffffff"/>
              </a:solidFill>
              <a:latin typeface="Century Old Style"/>
            </a:endParaRPr>
          </a:p>
        </p:txBody>
      </p:sp>
      <p:sp>
        <p:nvSpPr>
          <p:cNvPr id="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describe experiences that they believe prompted or precipitated their unusual eating behavior</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set usually quite sudden</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even strong objections from others, anorexics deny that they are thin and continue behavior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c pursues the destructive routine until physically unable to go 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Anorexia Nervosa</a:t>
            </a:r>
            <a:endParaRPr b="1" lang="en-US" sz="3800" spc="-1" strike="noStrike">
              <a:solidFill>
                <a:srgbClr val="ffffff"/>
              </a:solidFill>
              <a:latin typeface="Century Old Style"/>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hy do seemingly trivial occurrences trigger their anorexia?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pite much study, the etiology of anorexia nervosa remains unclear</a:t>
            </a:r>
            <a:endParaRPr b="1" i="1" lang="en-US" sz="28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enetic factors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ormonal and endocrine problems</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obsessive-compulsive tendencies, depression, </a:t>
            </a:r>
            <a:endParaRPr b="1" lang="en-US" sz="24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either genetic nor environmental influences can be ruled out</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Anorexia Nervosa</a:t>
            </a:r>
            <a:endParaRPr b="1" lang="en-US" sz="3600" spc="-1" strike="noStrike">
              <a:solidFill>
                <a:srgbClr val="ffffff"/>
              </a:solidFill>
              <a:latin typeface="Century Old Style"/>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rrect the individual’s nutrition problem and achieve medical stabilization</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tore a normal diet, which can be difficult if patients resist</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eatment must address a variety of factors since the weight and nutrition problems may be symptoms of other persistent psychological difficulties</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rapy approaches often include family counseling. Family therapy seems to have more lasting effec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Bulimia Nervousa</a:t>
            </a:r>
            <a:endParaRPr b="1" lang="en-US" sz="3800" spc="-1" strike="noStrike">
              <a:solidFill>
                <a:srgbClr val="ffffff"/>
              </a:solidFill>
              <a:latin typeface="Century Old Style"/>
            </a:endParaRPr>
          </a:p>
        </p:txBody>
      </p:sp>
      <p:sp>
        <p:nvSpPr>
          <p:cNvPr id="74"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Uncontrollable urges to eat huge amounts of food</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Get rid of excess calories by vomiting, abusing laxatives or diuretics, taking enemas or exercising compulsively</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Tied to times of anger, loneliness, fear, anxiety or stress</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a:t>
            </a:r>
            <a:r>
              <a:rPr b="1" i="1" lang="en-US" sz="2800" spc="-1" strike="noStrike">
                <a:solidFill>
                  <a:srgbClr val="ffffff"/>
                </a:solidFill>
                <a:latin typeface="Century Old Style"/>
              </a:rPr>
              <a:t>secret eating disorder”</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f2M3WbBp4LA&amp;feature=related</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ccccff"/>
                </a:solidFill>
                <a:uFillTx/>
                <a:latin typeface="Century Old Style"/>
                <a:hlinkClick r:id="rId2"/>
              </a:rPr>
              <a:t>http://www.youtube.com/watch?v=4zuDNSzO3zA&amp;feature=channel_page</a:t>
            </a: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869760"/>
            <a:ext cx="7772400" cy="6188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Bulimia Nervosa</a:t>
            </a:r>
            <a:endParaRPr b="1" lang="en-US" sz="3600" spc="-1" strike="noStrike">
              <a:solidFill>
                <a:srgbClr val="ffffff"/>
              </a:solidFill>
              <a:latin typeface="Century Old Style"/>
            </a:endParaRPr>
          </a:p>
        </p:txBody>
      </p:sp>
      <p:sp>
        <p:nvSpPr>
          <p:cNvPr id="76" name="PlaceHolder 2"/>
          <p:cNvSpPr>
            <a:spLocks noGrp="1"/>
          </p:cNvSpPr>
          <p:nvPr>
            <p:ph/>
          </p:nvPr>
        </p:nvSpPr>
        <p:spPr>
          <a:xfrm>
            <a:off x="685800" y="1904760"/>
            <a:ext cx="7772400" cy="464796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imia vs. Anorexia</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limia Nervosa: frequent episodes of uncontrolled binge eating alternately purging.  Can co-occur with Anorexia Nervosa</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With Bulimia, individuals usually maintain weight close to appropriate level; with anorexia individual greatly underweigh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Bulimia individuals fluctuate between gaining and loosing 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ith Anorexia, individuals suffer extreme, life-threatening, weight lo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79380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Etiology of Bulimia Nervosa</a:t>
            </a:r>
            <a:endParaRPr b="1" lang="en-US" sz="3600" spc="-1" strike="noStrike">
              <a:solidFill>
                <a:srgbClr val="ffffff"/>
              </a:solidFill>
              <a:latin typeface="Century Old Style"/>
            </a:endParaRPr>
          </a:p>
        </p:txBody>
      </p:sp>
      <p:sp>
        <p:nvSpPr>
          <p:cNvPr id="80" name="PlaceHolder 2"/>
          <p:cNvSpPr>
            <a:spLocks noGrp="1"/>
          </p:cNvSpPr>
          <p:nvPr>
            <p:ph/>
          </p:nvPr>
        </p:nvSpPr>
        <p:spPr>
          <a:xfrm>
            <a:off x="685800" y="1828800"/>
            <a:ext cx="7772400" cy="464832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uses of bulimia are somewhat unclear at this tim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reoccupation with food and have a persistent urge to eat</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ose with bulimia seem to have more affective disturbance, particularly depression, than most peopl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igher than normal level of substance abuse, and some report a history of sexual abuse.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imilar to anorexia, bulimia probably stems in part from cultural and social pressures to be thin</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reatment of Bulimia Nervosa</a:t>
            </a:r>
            <a:endParaRPr b="1" lang="en-US" sz="3600" spc="-1" strike="noStrike">
              <a:solidFill>
                <a:srgbClr val="ffffff"/>
              </a:solidFill>
              <a:latin typeface="Century Old Style"/>
            </a:endParaRPr>
          </a:p>
        </p:txBody>
      </p:sp>
      <p:sp>
        <p:nvSpPr>
          <p:cNvPr id="8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 evaluation of the individual should be undertaken at the outse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y be ruptures in the gastric or esophageal areas due to vomiting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tabolic complications from either the vomiting or the abuse of laxatives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ous dental complications include erosion of tooth enamel from highly acidic vomi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pproaches to bulimia have included medication and various combinations of education, counseling, and behavior management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idepressants are helpful in reducing binge eating, despite a substantial relapse rate when discontinued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arious strategies are used in behavioral therapy approache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ining in self-monitoring</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gnitive-behavioral therapies</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asic behavioral management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terrupting the disordered eating and then examining connections between certain cognitions and eating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elf-monitoring training and management of self-reinforcement contingencie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lapse prevention and the use of multiple interventions Obesity</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Biological Factors</a:t>
            </a:r>
            <a:endParaRPr b="1" lang="en-US" sz="2800" spc="-1" strike="noStrike">
              <a:solidFill>
                <a:srgbClr val="ffffff"/>
              </a:solidFill>
              <a:latin typeface="Century Old Style"/>
            </a:endParaRPr>
          </a:p>
        </p:txBody>
      </p:sp>
      <p:sp>
        <p:nvSpPr>
          <p:cNvPr id="52" name=""/>
          <p:cNvSpPr txBox="1"/>
          <p:nvPr/>
        </p:nvSpPr>
        <p:spPr>
          <a:xfrm>
            <a:off x="685800" y="1980720"/>
            <a:ext cx="7772400" cy="4573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Brain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ateral (destroy) … &lt; less eating </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 </a:t>
            </a:r>
            <a:r>
              <a:rPr b="1" lang="en-US" sz="2800" spc="-1" strike="noStrike">
                <a:solidFill>
                  <a:srgbClr val="ffffff"/>
                </a:solidFill>
                <a:latin typeface="Formata Medium"/>
              </a:rPr>
              <a:t>Ventromedial (destroy) … &gt;overeating</a:t>
            </a:r>
            <a:endParaRPr b="1" lang="en-US" sz="28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raventricular nucleus…modulates hunger</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Glucose and digestive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Glucostatic theory</a:t>
            </a:r>
            <a:endParaRPr b="1" lang="en-US" sz="28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Hormonal regulation</a:t>
            </a:r>
            <a:endParaRPr b="1" i="1" lang="en-US" sz="32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Insulin and lepti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868320"/>
            <a:ext cx="7772400" cy="61920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Obesity</a:t>
            </a:r>
            <a:endParaRPr b="1" lang="en-US" sz="3600" spc="-1" strike="noStrike">
              <a:solidFill>
                <a:srgbClr val="ffffff"/>
              </a:solidFill>
              <a:latin typeface="Century Old Style"/>
            </a:endParaRPr>
          </a:p>
        </p:txBody>
      </p:sp>
      <p:sp>
        <p:nvSpPr>
          <p:cNvPr id="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bese individuals have excess body fat and weigh approximately 30% more than is considered normal</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5 – 10% of preschool children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7% of ages 6-11 are obes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2% of teenager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alence especially among children has increased substantially in last 15 year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hildhood Obesity </a:t>
            </a:r>
            <a:endParaRPr b="1" lang="en-US" sz="3800" spc="-1" strike="noStrike">
              <a:solidFill>
                <a:srgbClr val="ffffff"/>
              </a:solidFill>
              <a:latin typeface="Century Old Style"/>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health risk because it usually precedes a lifelong battle with obesit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ressio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cial maladjustment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Obesity</a:t>
            </a:r>
            <a:endParaRPr b="1" lang="en-US" sz="3800" spc="-1" strike="noStrike">
              <a:solidFill>
                <a:srgbClr val="ffffff"/>
              </a:solidFill>
              <a:latin typeface="Century Old Style"/>
            </a:endParaRPr>
          </a:p>
        </p:txBody>
      </p:sp>
      <p:sp>
        <p:nvSpPr>
          <p:cNvPr id="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ories vary and often appear to be in conflict </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ne view hereditary or constitutional condition</a:t>
            </a:r>
            <a:endParaRPr b="1" i="1" lang="en-US" sz="28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hysiologically, there seem to be two types of obesity</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plastic obesity occurs when an individual has an abnormally high number of fat cells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ypertrophic obesity occurs when individuals are overweight primarily because of extremely enlarged fat cells.</a:t>
            </a:r>
            <a:endParaRPr b="1" lang="en-US" sz="24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 </a:t>
            </a:r>
            <a:endParaRPr b="1" lang="en-US" sz="3800" spc="-1" strike="noStrike">
              <a:solidFill>
                <a:srgbClr val="ffffff"/>
              </a:solidFill>
              <a:latin typeface="Century Old Style"/>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iological or physiological explanations feature the inheritance of a tendency toward obesity or slimn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y view learned behavior as an important cause of obesit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earch suggests that obesity in youngsters does predict adult obes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ing grossly overweight has psychological con-sequences as well as physical dangers </a:t>
            </a:r>
            <a:endParaRPr b="1" i="1" lang="en-US" sz="3200" spc="-1" strike="noStrike">
              <a:solidFill>
                <a:srgbClr val="ffffff"/>
              </a:solidFill>
              <a:latin typeface="Century Old Style"/>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gative physical self-perceptions </a:t>
            </a:r>
            <a:endParaRPr b="1" lang="en-US" sz="2800" spc="-1" strike="noStrike">
              <a:solidFill>
                <a:srgbClr val="ffffff"/>
              </a:solidFill>
              <a:latin typeface="Formata Medium"/>
            </a:endParaRPr>
          </a:p>
          <a:p>
            <a:pPr lvl="1" marL="743040" indent="-285840">
              <a:lnSpc>
                <a:spcPct val="96000"/>
              </a:lnSpc>
              <a:spcBef>
                <a:spcPts val="1199"/>
              </a:spcBef>
              <a:spcAft>
                <a:spcPts val="601"/>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ore lower on general self-worth than non-obese peer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Obesity</a:t>
            </a:r>
            <a:endParaRPr b="1" lang="en-US" sz="3800" spc="-1" strike="noStrike">
              <a:solidFill>
                <a:srgbClr val="ffffff"/>
              </a:solidFill>
              <a:latin typeface="Century Old Style"/>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lutions and treatments for being overweight that might seem uncomplicated on the surface, often fail in the context of chronic obes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ehavioral therapie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edical treatment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must be approached in a systematic fash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disciplinary team (perhaps consisting of a physician, nutritionist, psychologist, and exercise therapist) is more effectiv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bility to monitor one’s own behavior is important</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armacological Treatments</a:t>
            </a:r>
            <a:endParaRPr b="1" lang="en-US" sz="3800" spc="-1" strike="noStrike">
              <a:solidFill>
                <a:srgbClr val="ffffff"/>
              </a:solidFill>
              <a:latin typeface="Century Old Style"/>
            </a:endParaRPr>
          </a:p>
        </p:txBody>
      </p:sp>
      <p:sp>
        <p:nvSpPr>
          <p:cNvPr id="1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ugs that suppress appetite often have a number of undesirable or intolerable side effects </a:t>
            </a:r>
            <a:endParaRPr b="1" i="1" lang="en-US" sz="28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st weight is rapidly regained once the medication is discontinued </a:t>
            </a:r>
            <a:endParaRPr b="1" lang="en-US" sz="24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mphetamine-based medications that suppress appetite, increase activity, and heighten mood have been popular in both over-the-counter and prescription forms </a:t>
            </a:r>
            <a:endParaRPr b="1" lang="en-US" sz="2400" spc="-1" strike="noStrike">
              <a:solidFill>
                <a:srgbClr val="ffffff"/>
              </a:solidFill>
              <a:latin typeface="Formata Medium"/>
            </a:endParaRPr>
          </a:p>
          <a:p>
            <a:pPr lvl="2" marL="1143000" indent="-228600">
              <a:lnSpc>
                <a:spcPct val="8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he benefits may be short-lived</a:t>
            </a:r>
            <a:endParaRPr b="1"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urgical Interventions </a:t>
            </a:r>
            <a:endParaRPr b="1" lang="en-US" sz="3800" spc="-1" strike="noStrike">
              <a:solidFill>
                <a:srgbClr val="ffffff"/>
              </a:solidFill>
              <a:latin typeface="Century Old Style"/>
            </a:endParaRPr>
          </a:p>
        </p:txBody>
      </p:sp>
      <p:sp>
        <p:nvSpPr>
          <p:cNvPr id="1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strict stomach capacity, either by stapling procedures or by inserting balloon-type devices into the gastric cavity</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se approaches should be employed only in the most severe cases when other therapies have been unsuccessful</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Behavioral interventions</a:t>
            </a:r>
            <a:endParaRPr b="1" lang="en-US" sz="3800" spc="-1" strike="noStrike">
              <a:solidFill>
                <a:srgbClr val="ffffff"/>
              </a:solidFill>
              <a:latin typeface="Century Old Style"/>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ultifaceted behavioral treatment successfully treated obese children</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only age group for whom weight-reduction programs of any type have produced lasting benefi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programs tend to focus on managing eating behavior rather than attempting to change personalit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3"/>
          <p:cNvSpPr/>
          <p:nvPr/>
        </p:nvSpPr>
        <p:spPr>
          <a:xfrm>
            <a:off x="0" y="6567480"/>
            <a:ext cx="9144000" cy="291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Figure 9.3  The hypothalamus</a:t>
            </a:r>
            <a:endParaRPr b="0" lang="en-US" sz="1300" spc="-1" strike="noStrike">
              <a:solidFill>
                <a:srgbClr val="ffffff"/>
              </a:solidFill>
              <a:latin typeface="Times New Roman"/>
            </a:endParaRPr>
          </a:p>
        </p:txBody>
      </p:sp>
      <p:pic>
        <p:nvPicPr>
          <p:cNvPr id="54" name="Picture 4" descr="0903"/>
          <p:cNvPicPr/>
          <p:nvPr/>
        </p:nvPicPr>
        <p:blipFill>
          <a:blip r:embed="rId1"/>
          <a:stretch/>
        </p:blipFill>
        <p:spPr>
          <a:xfrm>
            <a:off x="1407960" y="60480"/>
            <a:ext cx="6348600" cy="6510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lf-monitoring capacity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ese people frequently do not realize the unsuitability of the foods they consume and how quickly and often they eat</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lf-monitoring allows the person to become conscious of behaviors that contribute to undesirable eating, which can then be targeted for modification</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oileting Problems</a:t>
            </a:r>
            <a:endParaRPr b="1" lang="en-US" sz="3800" spc="-1" strike="noStrike">
              <a:solidFill>
                <a:srgbClr val="ffffff"/>
              </a:solidFill>
              <a:latin typeface="Century Old Style"/>
            </a:endParaRPr>
          </a:p>
        </p:txBody>
      </p:sp>
      <p:sp>
        <p:nvSpPr>
          <p:cNvPr id="1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copresis: Abnormal or unacceptable patterns of fecal expulsion by children beyond the age of toilet training and lacking organic patholog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uresis:  Recurrent bed-wetting or wetting of clothing at least twice a week for 3 months, diagnosed in children over 5</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copresis</a:t>
            </a:r>
            <a:endParaRPr b="1" lang="en-US" sz="3800" spc="-1" strike="noStrike">
              <a:solidFill>
                <a:srgbClr val="ffffff"/>
              </a:solidFill>
              <a:latin typeface="Century Old Style"/>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tentive encopresis: an excessive retention of fecal material</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retentive encopresis: uncontrolled expulsion of feces (incontinence) resulting in soiled clothing and bedding</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ontinuous, or secondary, encopresis</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tinuous, or primary, encopresis </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tinctions are very important in trying to establish causation and devise treatment</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Encopresis</a:t>
            </a:r>
            <a:endParaRPr b="1" lang="en-US" sz="3800" spc="-1" strike="noStrike">
              <a:solidFill>
                <a:srgbClr val="ffffff"/>
              </a:solidFill>
              <a:latin typeface="Century Old Style"/>
            </a:endParaRPr>
          </a:p>
        </p:txBody>
      </p:sp>
      <p:sp>
        <p:nvSpPr>
          <p:cNvPr id="1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l</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0" lang="en-US" sz="3200" spc="-1" strike="noStrike">
                <a:solidFill>
                  <a:srgbClr val="ffffff"/>
                </a:solidFill>
                <a:latin typeface="Times New Roman"/>
              </a:rPr>
              <a:t>psychoanalytic</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treatment </a:t>
            </a:r>
            <a:endParaRPr b="1" lang="en-US" sz="3800" spc="-1" strike="noStrike">
              <a:solidFill>
                <a:srgbClr val="ffffff"/>
              </a:solidFill>
              <a:latin typeface="Century Old Style"/>
            </a:endParaRPr>
          </a:p>
        </p:txBody>
      </p:sp>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mphasize direct physical control of fecal matter using enemas, laxatives, and stool softeners along with modified diet and sometimes pediatric counseling</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 some cases, medication employed to control bowel actions </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ost view encopresis as a combined physiological and behavioral problem</a:t>
            </a:r>
            <a:endParaRPr b="1" i="1" lang="en-US" sz="28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modal treatments may include behavioral shaping as well as the physical control techniques mentioned above</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nuresis</a:t>
            </a:r>
            <a:endParaRPr b="1" lang="en-US" sz="3800" spc="-1" strike="noStrike">
              <a:solidFill>
                <a:srgbClr val="ffffff"/>
              </a:solidFill>
              <a:latin typeface="Century Old Style"/>
            </a:endParaRPr>
          </a:p>
        </p:txBody>
      </p:sp>
      <p:sp>
        <p:nvSpPr>
          <p:cNvPr id="11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SM-IV-TR cites prevalence for 5 – 10% for children at 5 years of age, 3 – 5% by age 10 and a lingering 1% of 15 year old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clinicians view urinary incontinence after about 3 to 5 years of age as a proble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Functional Nocturnal Enuresis </a:t>
            </a:r>
            <a:endParaRPr b="1" lang="en-US" sz="3800" spc="-1" strike="noStrike">
              <a:solidFill>
                <a:srgbClr val="ffffff"/>
              </a:solidFill>
              <a:latin typeface="Century Old Style"/>
            </a:endParaRPr>
          </a:p>
        </p:txBody>
      </p:sp>
      <p:sp>
        <p:nvSpPr>
          <p:cNvPr id="1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happen during the da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nection between sleep and urinary incontinenc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siderable attention given to the relationship between enuresis and sleep pattern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literature relates sleep cycles and sleep abnormalities to enuresi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he Psychodynamic </a:t>
            </a:r>
            <a:endParaRPr b="1" lang="en-US" sz="3800" spc="-1" strike="noStrike">
              <a:solidFill>
                <a:srgbClr val="ffffff"/>
              </a:solidFill>
              <a:latin typeface="Century Old Style"/>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terprets enuresis as a symptom of an inner conflict</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ffectiveness of psychoanalytic treatment has been poorly documented, and there is little research evidence for a success rate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Medical explanations </a:t>
            </a:r>
            <a:endParaRPr b="1" lang="en-US" sz="3800" spc="-1" strike="noStrike">
              <a:solidFill>
                <a:srgbClr val="ffffff"/>
              </a:solidFill>
              <a:latin typeface="Century Old Style"/>
            </a:endParaRPr>
          </a:p>
        </p:txBody>
      </p:sp>
      <p:sp>
        <p:nvSpPr>
          <p:cNvPr id="12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lude developmental or maturational lag, genetic influences, abnormalities of the urinary tract, and a deficit in cortical control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s have been used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luvoxamine is one popular alternative</a:t>
            </a:r>
            <a:endParaRPr b="1" lang="en-US" sz="2800" spc="-1" strike="noStrike">
              <a:solidFill>
                <a:srgbClr val="ffffff"/>
              </a:solidFill>
              <a:latin typeface="Formata Medium"/>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ehavioral approaches focus on the environmental contingencies related to urination.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rine alarms viewed as treatment of choice when combined with other treatments</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ccccff"/>
                </a:solidFill>
                <a:uFillTx/>
                <a:latin typeface="Formata Medium"/>
                <a:hlinkClick r:id="rId1"/>
              </a:rPr>
              <a:t>http://bedwettingstore.com/malem-ultimate-bedwetting-alarm.html</a:t>
            </a:r>
            <a:endParaRPr b="1" lang="en-US" sz="16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a:p>
            <a:pPr lvl="1" marL="743040" indent="0">
              <a:lnSpc>
                <a:spcPct val="96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pic>
        <p:nvPicPr>
          <p:cNvPr id="127" name="main_image" descr="Malem Ultimate Bedwetting Alarm"/>
          <p:cNvPicPr/>
          <p:nvPr/>
        </p:nvPicPr>
        <p:blipFill>
          <a:blip r:embed="rId2"/>
          <a:stretch/>
        </p:blipFill>
        <p:spPr>
          <a:xfrm>
            <a:off x="457200" y="228600"/>
            <a:ext cx="1752480" cy="1600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723960"/>
            <a:ext cx="7772400" cy="9104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entury Old Style"/>
              </a:rPr>
              <a:t>The Motivation of Hunger and Eating: Environmental Factors</a:t>
            </a:r>
            <a:endParaRPr b="1" lang="en-US" sz="2800" spc="-1" strike="noStrike">
              <a:solidFill>
                <a:srgbClr val="ffffff"/>
              </a:solidFill>
              <a:latin typeface="Century Old Style"/>
            </a:endParaRPr>
          </a:p>
        </p:txBody>
      </p:sp>
      <p:sp>
        <p:nvSpPr>
          <p:cNvPr id="56" name=""/>
          <p:cNvSpPr txBox="1"/>
          <p:nvPr/>
        </p:nvSpPr>
        <p:spPr>
          <a:xfrm>
            <a:off x="685800" y="1980720"/>
            <a:ext cx="7772400" cy="4619880"/>
          </a:xfrm>
          <a:prstGeom prst="rect">
            <a:avLst/>
          </a:prstGeom>
          <a:noFill/>
          <a:ln w="0">
            <a:noFill/>
          </a:ln>
        </p:spPr>
        <p:txBody>
          <a:bodyPr anchor="t">
            <a:normAutofit/>
          </a:bodyPr>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Food availability and related cue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Palatability</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Quantity available</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Variety</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Learned preferences and habits</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Classical conditioning</a:t>
            </a:r>
            <a:endParaRPr b="1" lang="en-US" sz="2800" spc="-1" strike="noStrike">
              <a:solidFill>
                <a:srgbClr val="ffffff"/>
              </a:solidFill>
              <a:latin typeface="Formata Medium"/>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Observational learning </a:t>
            </a:r>
            <a:endParaRPr b="1" lang="en-US" sz="2800" spc="-1" strike="noStrike">
              <a:solidFill>
                <a:srgbClr val="ffffff"/>
              </a:solidFill>
              <a:latin typeface="Formata Medium"/>
            </a:endParaRPr>
          </a:p>
          <a:p>
            <a:pPr marL="343080" indent="-343080">
              <a:lnSpc>
                <a:spcPct val="80000"/>
              </a:lnSpc>
              <a:spcBef>
                <a:spcPts val="201"/>
              </a:spcBef>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entury Old Style"/>
              </a:rPr>
              <a:t>Stress </a:t>
            </a:r>
            <a:endParaRPr b="1" i="1" lang="en-US" sz="3200" spc="-1" strike="noStrike">
              <a:solidFill>
                <a:srgbClr val="ffffff"/>
              </a:solidFill>
              <a:latin typeface="Century Old Style"/>
            </a:endParaRPr>
          </a:p>
          <a:p>
            <a:pPr lvl="1" marL="743040" indent="-285840">
              <a:lnSpc>
                <a:spcPct val="80000"/>
              </a:lnSpc>
              <a:spcBef>
                <a:spcPts val="601"/>
              </a:spcBef>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Formata Medium"/>
              </a:rPr>
              <a:t>Link between heightened arousal/negative emotion and overeating</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 Disorders</a:t>
            </a:r>
            <a:endParaRPr b="1" lang="en-US" sz="3800" spc="-1" strike="noStrike">
              <a:solidFill>
                <a:srgbClr val="ffffff"/>
              </a:solidFill>
              <a:latin typeface="Century Old Style"/>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occur in 30-45% of very young children</a:t>
            </a: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ysomnias (amount, quality, timing)</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rasomnias (abnormal behavior or physiological events)</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332640">
              <a:lnSpc>
                <a:spcPct val="80000"/>
              </a:lnSpc>
              <a:spcBef>
                <a:spcPts val="1199"/>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ccccff"/>
                </a:solidFill>
                <a:uFillTx/>
                <a:latin typeface="Century Old Style"/>
                <a:hlinkClick r:id="rId1"/>
              </a:rPr>
              <a:t>http://www.youtube.com/watch?v=9VCIY-UvcII</a:t>
            </a: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a:p>
            <a:pPr marL="332640" indent="0">
              <a:lnSpc>
                <a:spcPct val="80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ormal Sleep Cycle</a:t>
            </a:r>
            <a:endParaRPr b="1" lang="en-US" sz="3800" spc="-1" strike="noStrike">
              <a:solidFill>
                <a:srgbClr val="ffffff"/>
              </a:solidFill>
              <a:latin typeface="Century Old Style"/>
            </a:endParaRPr>
          </a:p>
        </p:txBody>
      </p:sp>
      <p:sp>
        <p:nvSpPr>
          <p:cNvPr id="1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 distinct states</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REM sleep: period during which rapid eye movements occur and an individual dreams</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REM sleep: lacks rapid eye movements, made up of 4 distinguishable stages </a:t>
            </a:r>
            <a:endParaRPr b="1" lang="en-US" sz="2800" spc="-1" strike="noStrike">
              <a:solidFill>
                <a:srgbClr val="ffffff"/>
              </a:solidFill>
              <a:latin typeface="Formata Medium"/>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 1 : transitional period between wakefulness and sleep</a:t>
            </a:r>
            <a:endParaRPr b="1" lang="en-US" sz="2400" spc="-1" strike="noStrike">
              <a:solidFill>
                <a:srgbClr val="ffffff"/>
              </a:solidFill>
              <a:latin typeface="Times New Roman"/>
            </a:endParaRPr>
          </a:p>
          <a:p>
            <a:pPr lvl="2" marL="1143000" indent="-228600">
              <a:lnSpc>
                <a:spcPct val="70000"/>
              </a:lnSpc>
              <a:spcBef>
                <a:spcPts val="1199"/>
              </a:spcBef>
              <a:spcAft>
                <a:spcPts val="300"/>
              </a:spcAft>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tages 2, 3, and 4: characterized by differences in amount and type of brain-wave activity, generally spoken of as increasing in “depth” of sleep</a:t>
            </a:r>
            <a:endParaRPr b="1"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arasomnias </a:t>
            </a:r>
            <a:endParaRPr b="1" lang="en-US" sz="3800" spc="-1" strike="noStrike">
              <a:solidFill>
                <a:srgbClr val="ffffff"/>
              </a:solidFill>
              <a:latin typeface="Century Old Style"/>
            </a:endParaRPr>
          </a:p>
        </p:txBody>
      </p:sp>
      <p:sp>
        <p:nvSpPr>
          <p:cNvPr id="13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ruptions associated with specific parts of the sleep cycle, stages of sleep, or sleep-wake shif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ctivation of physiological systems at inappropriate times during the sleep-wake cyc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late to cognitive process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ightmares and Night Terrors</a:t>
            </a:r>
            <a:endParaRPr b="1" lang="en-US" sz="3800" spc="-1" strike="noStrike">
              <a:solidFill>
                <a:srgbClr val="ffffff"/>
              </a:solidFill>
              <a:latin typeface="Century Old Style"/>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the parasomnia category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r some children, sleep disturbances are frequent, persistent, and intense, and are then considered serious enough to be considered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nd to happen at different times of night and during different sleep stages. from ordinary dream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ifferences between nightmares and night terrors</a:t>
            </a:r>
            <a:endParaRPr b="1" lang="en-US" sz="3800" spc="-1" strike="noStrike">
              <a:solidFill>
                <a:srgbClr val="ffffff"/>
              </a:solidFill>
              <a:latin typeface="Century Old Style"/>
            </a:endParaRPr>
          </a:p>
        </p:txBody>
      </p:sp>
      <p:sp>
        <p:nvSpPr>
          <p:cNvPr id="1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hildren experiencing night terrors typically sleep through the episode, even though their behavior is extremely agita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yes are often wide open, as though they were staring at something in terror; they make grimaces and exhibit considerable physical movement, sometimes running about the room frantically; they may also shout and scream.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nightmares, Children’s movements and verbalization much more subdued, typically restricted to moaning and slight movements in bed</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mares followed by a period during which the child is awake, recognizes people and surroundings, can provide a coherent account of what has transpired, and can remember the contents of the dream</a:t>
            </a:r>
            <a:endParaRPr b="1" i="1" lang="en-US" sz="3200" spc="-1" strike="noStrike">
              <a:solidFill>
                <a:srgbClr val="ffffff"/>
              </a:solidFill>
              <a:latin typeface="Century Old Style"/>
            </a:endParaRPr>
          </a:p>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ight terrors followed by instant and peaceful sleep, lack of recognition of people and surroundings, and frequently, complete amnesia regarding both contents and occurr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 of nightmares and night terrors </a:t>
            </a:r>
            <a:endParaRPr b="1" lang="en-US" sz="3800" spc="-1" strike="noStrike">
              <a:solidFill>
                <a:srgbClr val="ffffff"/>
              </a:solidFill>
              <a:latin typeface="Century Old Style"/>
            </a:endParaRPr>
          </a:p>
        </p:txBody>
      </p:sp>
      <p:sp>
        <p:nvSpPr>
          <p:cNvPr id="1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unknown at this time</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ories</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xual impulses that are not understood by the individual or experiences in a previous life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ssociated with a variety of other conditions such as bronchial asthma, milk intolerance, night-time feeding, and genetic disposition </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ultiple causes appear to be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4920"/>
            <a:ext cx="7772400" cy="120348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leep-Walking Disorder (Somnambulism)</a:t>
            </a:r>
            <a:endParaRPr b="1" lang="en-US" sz="3800" spc="-1" strike="noStrike">
              <a:solidFill>
                <a:srgbClr val="ffffff"/>
              </a:solidFill>
              <a:latin typeface="Century Old Style"/>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lnSpc>
                <a:spcPct val="80000"/>
              </a:lnSpc>
              <a:spcBef>
                <a:spcPts val="11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nambulism and night terrors have a number of common features; not unusual to find both problems in the same child</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an create serious problems since children can place themselves in danger by walking in unsafe places such as balconies and stairways</a:t>
            </a:r>
            <a:endParaRPr b="1" i="1" lang="en-US" sz="2800" spc="-1" strike="noStrike">
              <a:solidFill>
                <a:srgbClr val="ffffff"/>
              </a:solidFill>
              <a:latin typeface="Century Old Style"/>
            </a:endParaRPr>
          </a:p>
          <a:p>
            <a:pPr marL="339480" indent="-3394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nses are not functioning in a manner that would protect them from falling or other types of accidents</a:t>
            </a: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attributed to some type of emotional stre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has followed several approaches with varying degrees of success</a:t>
            </a:r>
            <a:endParaRPr b="1" i="1" lang="en-US" sz="3200" spc="-1" strike="noStrike">
              <a:solidFill>
                <a:srgbClr val="ffffff"/>
              </a:solidFill>
              <a:latin typeface="Century Old Style"/>
            </a:endParaRPr>
          </a:p>
          <a:p>
            <a:pPr lvl="1" marL="743040" indent="0">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Eating Disorders</a:t>
            </a:r>
            <a:endParaRPr b="1" lang="en-US" sz="3800" spc="-1" strike="noStrike">
              <a:solidFill>
                <a:srgbClr val="ffffff"/>
              </a:solidFill>
              <a:latin typeface="Century Old Style"/>
            </a:endParaRPr>
          </a:p>
        </p:txBody>
      </p:sp>
      <p:sp>
        <p:nvSpPr>
          <p:cNvPr id="58" name=""/>
          <p:cNvSpPr txBox="1"/>
          <p:nvPr/>
        </p:nvSpPr>
        <p:spPr>
          <a:xfrm>
            <a:off x="1143000" y="1905120"/>
            <a:ext cx="7772400" cy="57672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Societal contributions </a:t>
            </a:r>
            <a:endParaRPr b="1" i="1" lang="en-US" sz="2800" spc="-1" strike="noStrike">
              <a:solidFill>
                <a:srgbClr val="ffffff"/>
              </a:solidFill>
              <a:latin typeface="Century Old Style"/>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What messages do we get from society?</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are they sent?</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Is it the same for women and men?</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How do you feel looking at the ads, videos, movies etc.?</a:t>
            </a:r>
            <a:endParaRPr b="1" lang="en-US" sz="2400" spc="-1" strike="noStrike">
              <a:solidFill>
                <a:srgbClr val="ffffff"/>
              </a:solidFill>
              <a:latin typeface="Formata Medium"/>
            </a:endParaRPr>
          </a:p>
          <a:p>
            <a:pPr lvl="1" marL="743040" indent="-285840">
              <a:lnSpc>
                <a:spcPct val="96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Ultimate Female</a:t>
            </a:r>
            <a:r>
              <a:rPr b="1" lang="en-US" sz="2400" spc="-1" strike="noStrike">
                <a:solidFill>
                  <a:srgbClr val="ffffff"/>
                </a:solidFill>
                <a:latin typeface="Formata Medium"/>
              </a:rPr>
              <a:t>	</a:t>
            </a:r>
            <a:r>
              <a:rPr b="1" lang="en-US" sz="2400" spc="-1" strike="noStrike">
                <a:solidFill>
                  <a:srgbClr val="ffffff"/>
                </a:solidFill>
                <a:latin typeface="Formata Medium"/>
              </a:rPr>
              <a:t>Ultimate Male</a:t>
            </a:r>
            <a:endParaRPr b="1" lang="en-US" sz="2400" spc="-1" strike="noStrike">
              <a:solidFill>
                <a:srgbClr val="ffffff"/>
              </a:solidFill>
              <a:latin typeface="Formata Medium"/>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Video Clip:</a:t>
            </a: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QSqtVDIwnHo</a:t>
            </a: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yssomnias</a:t>
            </a:r>
            <a:endParaRPr b="1" lang="en-US" sz="3800" spc="-1" strike="noStrike">
              <a:solidFill>
                <a:srgbClr val="ffffff"/>
              </a:solidFill>
              <a:latin typeface="Century Old Style"/>
            </a:endParaRPr>
          </a:p>
        </p:txBody>
      </p:sp>
      <p:sp>
        <p:nvSpPr>
          <p:cNvPr id="1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leep disorders in which the affected individual has significant and chronic difficulty related to the “amount, quality, or timing of sleep”</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rimary Insomnia</a:t>
            </a:r>
            <a:endParaRPr b="1" lang="en-US" sz="3800" spc="-1" strike="noStrike">
              <a:solidFill>
                <a:srgbClr val="ffffff"/>
              </a:solidFill>
              <a:latin typeface="Century Old Style"/>
            </a:endParaRPr>
          </a:p>
        </p:txBody>
      </p:sp>
      <p:sp>
        <p:nvSpPr>
          <p:cNvPr id="15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volves a problem in falling asleep that has a duration of at least a month, causes substantial impairment in several areas of functioning, and is not related to substance effects or a general medical condi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ems to begin in the early adult years and is relatively rare during childhood or adolescence</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s</a:t>
            </a:r>
            <a:endParaRPr b="1" lang="en-US" sz="3800" spc="-1" strike="noStrike">
              <a:solidFill>
                <a:srgbClr val="ffffff"/>
              </a:solidFill>
              <a:latin typeface="Century Old Style"/>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xiety or worrying is a significant contributor to insomnia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evidence suggests that stress, anxiety, and panic attacks are more frequent among individuals with serious insomnia condition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s</a:t>
            </a:r>
            <a:endParaRPr b="1" lang="en-US" sz="3800" spc="-1" strike="noStrike">
              <a:solidFill>
                <a:srgbClr val="ffffff"/>
              </a:solidFill>
              <a:latin typeface="Century Old Style"/>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edication widely employed, but with mixed resul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have the advantage of avoiding harmful side effects and placing the patient in greater contro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prehensive behavioral treatment packages have had high success rate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arcolepsy</a:t>
            </a:r>
            <a:endParaRPr b="1" lang="en-US" sz="3800" spc="-1" strike="noStrike">
              <a:solidFill>
                <a:srgbClr val="ffffff"/>
              </a:solidFill>
              <a:latin typeface="Century Old Style"/>
            </a:endParaRPr>
          </a:p>
        </p:txBody>
      </p:sp>
      <p:sp>
        <p:nvSpPr>
          <p:cNvPr id="1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in which individuals encounter “sleep attacks” at times when they are trying to stay awak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ften thought of as excessive sleep, but should more correctly be viewed as inappropriate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Cause of Narcolepsy </a:t>
            </a:r>
            <a:endParaRPr b="1" lang="en-US" sz="3800" spc="-1" strike="noStrike">
              <a:solidFill>
                <a:srgbClr val="ffffff"/>
              </a:solidFill>
              <a:latin typeface="Century Old Style"/>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argely eluded researchers to date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ne factor that has been identified relates to disturbances of REM sleep</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Narcolepsy </a:t>
            </a:r>
            <a:endParaRPr b="1" lang="en-US" sz="3800" spc="-1" strike="noStrike">
              <a:solidFill>
                <a:srgbClr val="ffffff"/>
              </a:solidFill>
              <a:latin typeface="Century Old Style"/>
            </a:endParaRPr>
          </a:p>
        </p:txBody>
      </p:sp>
      <p:sp>
        <p:nvSpPr>
          <p:cNvPr id="1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drug therap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pharmacological treatments, such as behavior management and diet alteration, are only recently getting attention in the literature, and considerable research is needed to establish their effectivenes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peech Disorders</a:t>
            </a:r>
            <a:endParaRPr b="1" lang="en-US" sz="3800" spc="-1" strike="noStrike">
              <a:solidFill>
                <a:srgbClr val="ffffff"/>
              </a:solidFill>
              <a:latin typeface="Century Old Style"/>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layed Speech</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onological (articulation) disorder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fluency disorde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finitions</a:t>
            </a:r>
            <a:endParaRPr b="1" lang="en-US" sz="3800" spc="-1" strike="noStrike">
              <a:solidFill>
                <a:srgbClr val="ffffff"/>
              </a:solidFill>
              <a:latin typeface="Century Old Style"/>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fective speech refers to speech behavior that is sufficiently deviant from normal or accepted speaking patterns that it attracts attention and adversely affects communication for either the speaker or the listener</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Delayed Speech</a:t>
            </a:r>
            <a:endParaRPr b="1" lang="en-US" sz="3800" spc="-1" strike="noStrike">
              <a:solidFill>
                <a:srgbClr val="ffffff"/>
              </a:solidFill>
              <a:latin typeface="Century Old Style"/>
            </a:endParaRPr>
          </a:p>
        </p:txBody>
      </p:sp>
      <p:sp>
        <p:nvSpPr>
          <p:cNvPr id="1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7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ilure of speech to develop at the expected age </a:t>
            </a:r>
            <a:endParaRPr b="1" i="1" lang="en-US" sz="3200" spc="-1" strike="noStrike">
              <a:solidFill>
                <a:srgbClr val="ffffff"/>
              </a:solidFill>
              <a:latin typeface="Century Old Style"/>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ome children with delayed speech develop little or no expressive speech beyond vocalizations that are not interpretable as conventional language</a:t>
            </a:r>
            <a:endParaRPr b="1" lang="en-US" sz="2800" spc="-1" strike="noStrike">
              <a:solidFill>
                <a:srgbClr val="ffffff"/>
              </a:solidFill>
              <a:latin typeface="Formata Medium"/>
            </a:endParaRPr>
          </a:p>
          <a:p>
            <a:pPr lvl="1" marL="743040" indent="-285840">
              <a:lnSpc>
                <a:spcPct val="8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Other children with delayed speech can speak a little, but their proficiency is limited for their age and they mainly use nouns without qualifying or auxiliary words</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Century Old Style"/>
              </a:rPr>
              <a:t>Anorexia Nervousa</a:t>
            </a:r>
            <a:endParaRPr b="1" lang="en-US" sz="3800" spc="-1" strike="noStrike">
              <a:solidFill>
                <a:srgbClr val="ffffff"/>
              </a:solidFill>
              <a:latin typeface="Century Old Style"/>
            </a:endParaRPr>
          </a:p>
        </p:txBody>
      </p:sp>
      <p:sp>
        <p:nvSpPr>
          <p:cNvPr id="60" name=""/>
          <p:cNvSpPr txBox="1"/>
          <p:nvPr/>
        </p:nvSpPr>
        <p:spPr>
          <a:xfrm>
            <a:off x="685800" y="1981080"/>
            <a:ext cx="7772400" cy="4114800"/>
          </a:xfrm>
          <a:prstGeom prst="rect">
            <a:avLst/>
          </a:prstGeom>
          <a:noFill/>
          <a:ln w="0">
            <a:noFill/>
          </a:ln>
        </p:spPr>
        <p:txBody>
          <a:bodyPr anchor="t">
            <a:normAutofit fontScale="94000"/>
          </a:bodyPr>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ating disorder that involves extreme weight loss</a:t>
            </a:r>
            <a:endParaRPr b="1" i="1" lang="en-US" sz="2800" spc="-1" strike="noStrike">
              <a:solidFill>
                <a:srgbClr val="ffffff"/>
              </a:solidFill>
              <a:latin typeface="Century Old Style"/>
            </a:endParaRPr>
          </a:p>
          <a:p>
            <a:pPr lvl="1" marL="698400" indent="-268560">
              <a:lnSpc>
                <a:spcPct val="80000"/>
              </a:lnSpc>
              <a:spcBef>
                <a:spcPts val="601"/>
              </a:spcBef>
              <a:spcAft>
                <a:spcPts val="601"/>
              </a:spcAft>
              <a:buClr>
                <a:srgbClr val="ffffff"/>
              </a:buClr>
              <a:buFont typeface="Formata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Formata Medium"/>
              </a:rPr>
              <a:t>Below 15% of their ideal body weight</a:t>
            </a:r>
            <a:endParaRPr b="1" lang="en-US" sz="2400" spc="-1" strike="noStrike">
              <a:solidFill>
                <a:srgbClr val="ffffff"/>
              </a:solidFill>
              <a:latin typeface="Formata Medium"/>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t loss is “badge of achievemen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Restricts foods even though not overweight</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Distorted body image</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Preoccupied with food, calories, nutrition and cooking</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Exercise obsessivel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entury Old Style"/>
              </a:rPr>
              <a:t>Weighs self with abnormal frequency</a:t>
            </a: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ffffff"/>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ccccff"/>
                </a:solidFill>
                <a:uFillTx/>
                <a:latin typeface="Century Old Style"/>
                <a:hlinkClick r:id="rId1"/>
              </a:rPr>
              <a:t>http://www.youtube.com/watch?v=VS2mfWDryPE&amp;feature=related</a:t>
            </a:r>
            <a:endParaRPr b="1" i="1" lang="en-US" sz="20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a:p>
            <a:pPr marL="322200" indent="-322200">
              <a:lnSpc>
                <a:spcPct val="80000"/>
              </a:lnSpc>
              <a:spcBef>
                <a:spcPts val="201"/>
              </a:spcBef>
              <a:spcAft>
                <a:spcPts val="300"/>
              </a:spcAft>
              <a:buClr>
                <a:srgbClr val="000000"/>
              </a:buClr>
              <a:buFont typeface="Century Old Sty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peech Delays</a:t>
            </a:r>
            <a:endParaRPr b="1" lang="en-US" sz="3800" spc="-1" strike="noStrike">
              <a:solidFill>
                <a:srgbClr val="ffffff"/>
              </a:solidFill>
              <a:latin typeface="Century Old Style"/>
            </a:endParaRPr>
          </a:p>
        </p:txBody>
      </p:sp>
      <p:sp>
        <p:nvSpPr>
          <p:cNvPr id="1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stem from experience deprivation,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be the result of sensory deprivation from an anatomical defect such as a hearing los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eurological problems (e.g., cerebral palsy)</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rious emotional disturbances such as childhood schizophrenia and autism and less severe problems such as negativis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Negativism </a:t>
            </a:r>
            <a:endParaRPr b="1" lang="en-US" sz="3800" spc="-1" strike="noStrike">
              <a:solidFill>
                <a:srgbClr val="ffffff"/>
              </a:solidFill>
              <a:latin typeface="Century Old Style"/>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en children are developing speech, great pressure is being exerted on them by their parents to learn many other skills as well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mands exceed some children’s tolerance level, and they may be unable to perform as expect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rtain children respond negatively to such a situation by refusing to perform</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843840"/>
            <a:ext cx="7772400" cy="671040"/>
          </a:xfrm>
          <a:prstGeom prst="rect">
            <a:avLst/>
          </a:prstGeom>
          <a:noFill/>
          <a:ln w="0">
            <a:noFill/>
          </a:ln>
        </p:spPr>
        <p:txBody>
          <a:bodyPr lIns="90000" rIns="90000" tIns="46800" bIns="46800" anchor="ctr">
            <a:noAutofit/>
          </a:bodyPr>
          <a:p>
            <a:pPr indent="0" algn="r">
              <a:lnSpc>
                <a:spcPct val="96000"/>
              </a:lnSpc>
              <a:spcBef>
                <a:spcPts val="2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Times New Roman"/>
            </a:endParaRPr>
          </a:p>
        </p:txBody>
      </p:sp>
      <p:sp>
        <p:nvSpPr>
          <p:cNvPr id="1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f form of rebellion, the reward contingencies in the environment must be altered</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be necessary to alter behavior patterns that are only indirectly related to the speech dela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xperience Deprivation</a:t>
            </a:r>
            <a:endParaRPr b="1" lang="en-US" sz="3800" spc="-1" strike="noStrike">
              <a:solidFill>
                <a:srgbClr val="ffffff"/>
              </a:solidFill>
              <a:latin typeface="Century Old Style"/>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nvironmental contingencies must exist in a configuration that will permit and promote children’s learning to speak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ome households that do not promote language acquisition, and significantly delayed child speech may result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hild does not have much exposure to modeling of speech and perhaps receives little reinforcement for speaking and vocalizing </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Other Circumstances </a:t>
            </a:r>
            <a:endParaRPr b="1" lang="en-US" sz="3800" spc="-1" strike="noStrike">
              <a:solidFill>
                <a:srgbClr val="ffffff"/>
              </a:solidFill>
              <a:latin typeface="Century Old Style"/>
            </a:endParaRPr>
          </a:p>
        </p:txBody>
      </p:sp>
      <p:sp>
        <p:nvSpPr>
          <p:cNvPr id="1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 child with normal hearing capacity is born to deaf parent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y also occur in homes where there is a great deal of verbalization and noise occurring in a very confused and unsystematic fashion</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 of Speech Delays</a:t>
            </a:r>
            <a:endParaRPr b="1" lang="en-US" sz="3800" spc="-1" strike="noStrike">
              <a:solidFill>
                <a:srgbClr val="ffffff"/>
              </a:solidFill>
              <a:latin typeface="Century Old Style"/>
            </a:endParaRPr>
          </a:p>
        </p:txBody>
      </p:sp>
      <p:sp>
        <p:nvSpPr>
          <p:cNvPr id="1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eech delay caused by experience deprivation can be treated by using fundamental principles of learning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Phonological Disorders</a:t>
            </a:r>
            <a:endParaRPr b="1" lang="en-US" sz="3800" spc="-1" strike="noStrike">
              <a:solidFill>
                <a:srgbClr val="ffffff"/>
              </a:solidFill>
              <a:latin typeface="Century Old Style"/>
            </a:endParaRPr>
          </a:p>
        </p:txBody>
      </p:sp>
      <p:sp>
        <p:nvSpPr>
          <p:cNvPr id="1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eviously classified as articulation disorder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requently occurring category of all speech disorders according to DSM-IV-TR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tuttering</a:t>
            </a:r>
            <a:endParaRPr b="1" lang="en-US" sz="3800" spc="-1" strike="noStrike">
              <a:solidFill>
                <a:srgbClr val="ffffff"/>
              </a:solidFill>
              <a:latin typeface="Century Old Style"/>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order of fluency and rhythm of speech with intermittent blocking, repetition, or prolongation of sounds, syllables, words, or phrase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spite the fact that stuttering is noticed, it is among the least prevalent of speech disorders </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Etiology of Stuttering</a:t>
            </a:r>
            <a:endParaRPr b="1" lang="en-US" sz="3800" spc="-1" strike="noStrike">
              <a:solidFill>
                <a:srgbClr val="ffffff"/>
              </a:solidFill>
              <a:latin typeface="Century Old Style"/>
            </a:endParaRPr>
          </a:p>
        </p:txBody>
      </p:sp>
      <p:sp>
        <p:nvSpPr>
          <p:cNvPr id="1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tuttering may have a variety of causes </a:t>
            </a:r>
            <a:endParaRPr b="1" i="1" lang="en-US" sz="3200" spc="-1" strike="noStrike">
              <a:solidFill>
                <a:srgbClr val="ffffff"/>
              </a:solidFill>
              <a:latin typeface="Century Old Style"/>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emotional or neurotic problem wherein stuttering is a behavioral manifestation of some emotional difficulty</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nstitutional or neurological problem</a:t>
            </a:r>
            <a:endParaRPr b="1" lang="en-US" sz="2800" spc="-1" strike="noStrike">
              <a:solidFill>
                <a:srgbClr val="ffffff"/>
              </a:solidFill>
              <a:latin typeface="Formata Medium"/>
            </a:endParaRPr>
          </a:p>
          <a:p>
            <a:pPr lvl="1" marL="743040" indent="-285840">
              <a:lnSpc>
                <a:spcPct val="96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arning perspective</a:t>
            </a:r>
            <a:endParaRPr b="1" lang="en-US" sz="2800" spc="-1" strike="noStrike">
              <a:solidFill>
                <a:srgbClr val="ffffff"/>
              </a:solidFill>
              <a:latin typeface="Formata Medium"/>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85536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Treatment</a:t>
            </a:r>
            <a:endParaRPr b="1" lang="en-US" sz="3800" spc="-1" strike="noStrike">
              <a:solidFill>
                <a:srgbClr val="ffffff"/>
              </a:solidFill>
              <a:latin typeface="Century Old Style"/>
            </a:endParaRPr>
          </a:p>
        </p:txBody>
      </p:sp>
      <p:sp>
        <p:nvSpPr>
          <p:cNvPr id="1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sychotherapy met with limited success</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ther treatment procedures have focused on the rhythm process of speech, for example,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eatment of stuttering increasingly included behavioral therapy that attempts to teach the affected individual fluent speaking patterns Summary</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4 characteristics often observed in victims of anorexia nervosa</a:t>
            </a:r>
            <a:endParaRPr b="1" lang="en-US" sz="3000" spc="-1" strike="noStrike">
              <a:solidFill>
                <a:srgbClr val="ffffff"/>
              </a:solidFill>
              <a:latin typeface="Century Old Style"/>
            </a:endParaRPr>
          </a:p>
        </p:txBody>
      </p:sp>
      <p:sp>
        <p:nvSpPr>
          <p:cNvPr id="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often between 14 and 18 years old</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imarily female</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ften have 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e a real risk of death</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856800"/>
            <a:ext cx="7772400" cy="64764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Times New Roman"/>
              </a:rPr>
              <a:t>Social History of Anorexia Nervosa</a:t>
            </a:r>
            <a:endParaRPr b="1" lang="en-US" sz="3800" spc="-1" strike="noStrike">
              <a:solidFill>
                <a:srgbClr val="ffffff"/>
              </a:solidFill>
              <a:latin typeface="Century Old Style"/>
            </a:endParaRPr>
          </a:p>
        </p:txBody>
      </p:sp>
      <p:sp>
        <p:nvSpPr>
          <p:cNvPr id="6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1920s, “flapper” styles - eating disorders increased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creasing prevalence of restrictive eating disorders in the 20th century, in the richer, more industrialized countries with thriving fashion industries </a:t>
            </a:r>
            <a:endParaRPr b="1" i="1" lang="en-US" sz="3200" spc="-1" strike="noStrike">
              <a:solidFill>
                <a:srgbClr val="ffffff"/>
              </a:solidFill>
              <a:latin typeface="Century Old Style"/>
            </a:endParaRPr>
          </a:p>
          <a:p>
            <a:pPr marL="343080" indent="-343080">
              <a:lnSpc>
                <a:spcPct val="80000"/>
              </a:lnSpc>
              <a:spcBef>
                <a:spcPts val="1199"/>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ue anorexia nervosa extremely rare in economically deprived groups and during wars and famin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96960"/>
            <a:ext cx="7772400" cy="968760"/>
          </a:xfrm>
          <a:prstGeom prst="rect">
            <a:avLst/>
          </a:prstGeom>
          <a:noFill/>
          <a:ln w="0">
            <a:noFill/>
          </a:ln>
        </p:spPr>
        <p:txBody>
          <a:bodyPr anchor="ctr">
            <a:noAutofit/>
          </a:bodyPr>
          <a:p>
            <a:pPr indent="0" algn="r">
              <a:lnSpc>
                <a:spcPct val="96000"/>
              </a:lnSpc>
              <a:spcBef>
                <a:spcPts val="11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imes New Roman"/>
              </a:rPr>
              <a:t>Personality Traits Associated with Anorexia Nervosa</a:t>
            </a:r>
            <a:endParaRPr b="1" lang="en-US" sz="3000" spc="-1" strike="noStrike">
              <a:solidFill>
                <a:srgbClr val="ffffff"/>
              </a:solidFill>
              <a:latin typeface="Century Old Style"/>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fectionist tendencies</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xcessive self-criticism, guilt, depression</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iven by need to be thin </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Only a few had history of being overweight</a:t>
            </a:r>
            <a:endParaRPr b="1" i="1" lang="en-US" sz="3200" spc="-1" strike="noStrike">
              <a:solidFill>
                <a:srgbClr val="ffffff"/>
              </a:solidFill>
              <a:latin typeface="Century Old Style"/>
            </a:endParaRPr>
          </a:p>
          <a:p>
            <a:pPr marL="343080" indent="-343080">
              <a:lnSpc>
                <a:spcPct val="80000"/>
              </a:lnSpc>
              <a:spcBef>
                <a:spcPts val="201"/>
              </a:spcBef>
              <a:spcAft>
                <a:spcPts val="300"/>
              </a:spcAft>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n run in families</a:t>
            </a:r>
            <a:endParaRPr b="1" i="1" lang="en-US" sz="3200" spc="-1" strike="noStrike">
              <a:solidFill>
                <a:srgbClr val="ffffff"/>
              </a:solidFill>
              <a:latin typeface="Century Old Sty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4:18:09Z</dcterms:created>
  <dc:creator>DMONEYPENNY</dc:creator>
  <dc:description/>
  <dc:language>en-US</dc:language>
  <cp:lastModifiedBy>dshea</cp:lastModifiedBy>
  <dcterms:modified xsi:type="dcterms:W3CDTF">2012-06-27T19:41:58Z</dcterms:modified>
  <cp:revision>13</cp:revision>
  <dc:subject/>
  <dc:title>Chapter 14</dc:title>
</cp:coreProperties>
</file>