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6EA3-4F26-49D3-96F3-E1514DBB9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41DF-8016-4F42-BB8C-897C96F9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A6B1-17E5-40B0-8B92-1F71A975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2738-03B7-4B2E-82F9-87DACD5EE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54F6-C855-4B86-8521-9C971C76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8E5C-A7F7-4D06-AF03-27008F33E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1E59-844C-48A8-8518-7097BBAD2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7671-B941-4552-AA7C-D964F1BA4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1D4D-2909-4DB6-9E4B-BB1ED7109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47F0-01BC-4B33-B375-3181B732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9DE6-7A51-488F-8858-7E52C1455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8608-027E-48A3-9435-CFFD6FF39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390C-0063-40CA-BD34-4585B270A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COUN 575</a:t>
            </a:r>
            <a:br>
              <a:rPr sz="3400"/>
            </a:b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Dr. Shea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xiety, Posttraumatic Stress, and Obsessive-Compulsive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osttraumatic Stress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d by people who have experienced an extremely devastating ev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and unwilling re-experiencing of traumatic event, persistent attempts to avoid all thoughts and acts related to the event, and a high state of aro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TSD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can develop PTSD even if not directly physically threate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who lose a parent at particular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TSD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t gender and developmental differences in how people react to catastrophic ev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rls 5 times more likely than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ymptom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develop immediately or months/years after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organized, agitated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stent mental experiencing of event followed by long periods of avoidance and emotional numb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ance of anything associated with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ggerated startle responses, hyper aler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ed research suggests immediate relief comes from support of teachers and classma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and teachers need to convey sense of calm and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ve-behavioral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y/group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iagnosi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diagn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lap of symptoms of anxiety, mood and other internalizing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s heavily on self-reported anxiety, fear or depression, difficult for young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ocial Anxiety Disorder, or Social Phobia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erage onset is 15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d by extreme self-consciousness and incapacitating anxiety in social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urs twice as often in women as men, but men are more likely to seek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ocial Anxiety Disorder, or Social Phobia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aining about pervasive fear of being observed, judged negat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 concern about inadvertently doing things that are humili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ry far in advance of social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aks at informal gatherings rather than at formal situations or presentations, which are highly scrip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Vicious Cycl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phobic children are less socially skill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negative reactions from pe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mines self-confidence, leading to further social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chool-Related Avoidance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in DSM-IV as separate disorder, but as symptom of separation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avoidance of school motivated by intense fear and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stem from specific pho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indicate generalized anxiety or separation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efining Fear and Anxiet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s of anxious children much less obvious, more difficult to ass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 – strong emotional alarm reaction to real or perceived danger.  Sympathetic nervous system stimulates flight or fight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nic – sudden overwhelming state of extreme terror or 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xiety – persistent concern about danger in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chool-Related Avoidance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ectionists displaying excessive concerns about academic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arise from modeling of anxious, overprotective parents, anxiety disorder or specific pho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wo Types of Refusal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d acute school ref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s younger children, little or no family discord, sudden on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pid return to school is most used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chronic school ref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 in children over 11 from unstable fami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ents may be overcontro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Management of School Refusal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d form best treated by parents’ firm, supportive insistence that the child gradually return to sch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form often accompanied by other disorders and requires professional inter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xity requires assessment and therapy tailored to individual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Etiology of Anxiety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sychodymanic Theor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ud – psychologically created tension, anxiety, guilt, sexual jealou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day theory loosely based on psychoanalysis, but emphasizes importance of social rather than sexual inte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bic person wants to be center of at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develops specific phobia or anxiety as a way of expressing an unacceptable des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ocial Learning and Cognitive Approache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 based and emphasizes role of modeling in development of f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dura’s Self-efficacy theor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don’t develop fears so much from fright paired with sight of feared object as from anxiety that they cannot successfully avoid feared object and protect themsel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self-confidence leads to dwelling on possibility of losing contr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ocial Learning and Cognitive Approache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don’t necessarily fear things that can harm them (automobiles, drown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need to teach children realistic fears and help them overcome unrealistic 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Biological Contributo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nts in recent research suggests that there may be complex multiple gene contributions to anxiety and panic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of mothers, but not fathers, who have a lifetime history of anxiety disorder are doubly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suggests that stable differences in brain activity may characterize certain children as susceptible to anxiety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rognosis for Children with Phobias and Anxiety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early phobias are quickly and effectively treated b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nosis is worse for those with severe anxiety disord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persist only 20%   are eventually over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 of physical illness and social anxiety disorder tend to persist throughout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sychological Intervention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sychodynamic Therap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encouraged to act out fears and fantasies in therapy s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st interprets meaning of fantas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s troubling unconscious feelings transferred from parent to analy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bic reactions disappear without specific intervention when psychological conflicts have been res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hildren’s Common Fea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-12 months – loss of support, loud unexpected, looming objects, stran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-24 months – separation from parent, strangers, inj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4-36 months – separation from parents, animals, dark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-6 years separation from parents, strangers, animals, darkness, inj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Psychological Interventions (continued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iq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nsive and time consum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aspects have become incorporated into mainstream of child psycho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esensitization Therap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s place in gradual ste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child’s learning to relax in stress-inducing circumstances by going through fear hierarchies from mild to most seve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ation used to counteract  the muscular tension of anx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wback: doesn’t teach child to deal with what they fear, so needs to be coupled with other 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Modeling and Guided Participat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 in treating children's specific phobias especially when limited to a particular sit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: Child’s confidence built by watching someone else deal with feared stimu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ided Participation: Carefully supervised confrontations with feared stimulus in natural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gnitive-Behavioral Treatment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faceted cognitive-behavioral treatment very effective, and rigorously tested.  Techniques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ying anxious self-t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ing problem solving and behavioral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Obsessive-Compulsive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n rituals or routines reassure young children and provide sense of 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hological obsessive-compulsive behavior consists of attempts to reduce severe anxiety and involves unusual activ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 was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rubbing already spotless surrou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mpulsive Childre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ons can develop without ob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tuals involving washing, repeatedly arranging objects, or checking on location of certain objects over and 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ve children may develop phobias, depression, and neurological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Obs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ssions usually accompany other problems (phobias, depress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ly to persist through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SM-IV-TR diagnostic criteria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ssions and compulsions are senseless repeated thoughts, images, or impulses (obsessions) or repetitive acts (compulsions) that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realistic and dysfunc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enced as unwelcome but irresist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enced as products of one’s own mind rather than external thre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tualistic and stereoty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-consum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ruptive of everyday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ypical features for youngst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ssive themes – contamination, aggression, maintaining ultra strict order, fear that family members might be kil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ons – checking under bed constantly, wipe possessions repeatedly, tapping.  Most engage in rituals at home and try to hide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 of Obsessive-Compulsive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ve-Behavioral therapy – most recommended treatment, alone or combined with an SSR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ct with anxiety-provoking event followed by guided, prolonged exposure to feared stimulus,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dden exposure to feared stimulus. To demonstrate that compulsive behavior is not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mmon Fears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-10 years – darkness, injury, being alone, imaginary be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-12 years – injury, social evaluations, school failure, ridicule, thunderstorms,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-18 years – school failure, peer rejection, family problems, wars, future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rug Treatmen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voxamine – well tolerated and acts rapidly in short ter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term effects unkn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ources of fea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and cognitive limi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rving other people’s fearful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ult’s warnings about potential thre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hobia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SM-IV-TR recognizes that children’s phobic symptoms differ from those of ad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eria for assessment includes age, duration, intensity, and type of f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eparation Anxiety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child grows less rather than more tolerant of separations from one or both pa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most common childhood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 excessive age-inappropriate worries about s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 refusal can be a form (DSM-IV) although some classify as sep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Generalized Anxiety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controllable, excessive anxiety and worry, occurring consistently for 6 months, extending to many events and activ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shows one of following in extreme form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less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iculty in concentr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cle tension or sleep disturb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GAD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 may be insecure, perfectionist (resembles OC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mpanied by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spread anxiety in many different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3:59:35Z</dcterms:created>
  <dc:creator>DMONEYPENNY</dc:creator>
  <dc:description/>
  <dc:language>en-US</dc:language>
  <cp:lastModifiedBy>dshea</cp:lastModifiedBy>
  <dcterms:modified xsi:type="dcterms:W3CDTF">2011-02-05T18:29:18Z</dcterms:modified>
  <cp:revision>9</cp:revision>
  <dc:subject/>
  <dc:title>Chapter 7</dc:title>
</cp:coreProperties>
</file>