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516-26D6-480D-B02E-6F62E918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4F0-0075-4E11-AFC4-B93DDBBC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080-26D5-422D-9B4E-CE897AA2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341-414A-46C4-95A4-9666E52A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410-4EE7-4110-B112-C5FE4C5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274-E234-4E5F-A183-CACFC55F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40C-9DD5-492C-BA65-493496B9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35D-C4C8-4FD5-8333-A7332184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F47-5F23-4C7C-A503-137B146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3CA-9059-4046-8059-53DFE9B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82C-8ECC-4B1B-B986-3DDAA8D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AB8-2D27-487C-91C4-824E7826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9E3-691E-435B-B5AC-6921F6055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r. Shea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, Posttraumatic Stress, and Obsessive-Compuls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gender and developmental differences in how people react to catastrophic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5 times more likely than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ectionists displaying excessive concerns about academic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rise from modeling of anxious, overprotective parents, anxiety disorder or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return to school is most use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may be overcontro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nagement of School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form best treated by parents’ firm, supportive insistence that the child gradually return to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form often accompanied by other disorders and requires professional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ity requires assessment and therapy tailored to individual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based and emphasizes role of modeling in development of f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elf-confidence leads to dwelling on possibility of losing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necessarily fear things that can harm them (automobiles, drow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need to teach children realistic fears and help them overcome unrealistic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spects have become incorporated into mainstream of child psycho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diagnostic criter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rug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voxamine – well tolerated and acts rapidly in short te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effects un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shea</cp:lastModifiedBy>
  <dcterms:modified xsi:type="dcterms:W3CDTF">2011-02-05T18:29:18Z</dcterms:modified>
  <cp:revision>9</cp:revision>
  <dc:subject/>
  <dc:title>Chapter 7</dc:title>
</cp:coreProperties>
</file>