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BAC5-6855-4738-980B-A41CD9F0D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D1AE-4C76-4F4C-A05A-81CFA384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CDC2-573D-4242-BE80-328F1E5D3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689B-2D0C-423B-A80A-65A649905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9A60-9868-4ED8-A9DC-627196198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C980-9FAF-49A2-B4BD-B8F95DFFD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311-6B4C-461C-807D-34BA3E28B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7011-2E4E-4A77-A25B-54DA2C36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1C1E-AD41-40B9-9904-2E4D88D14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52F4-D058-4F8B-BE37-1A070C03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6A1-7F94-4389-BC61-D624B9C1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2F59-9FB3-42B0-A62E-9F40CF93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D23A-49A0-4BAB-A4C7-CD5C5A6B94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r. Shea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, Posttraumatic Stress, and Obsessive-Compulsive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ortant gender and developmental differences in how people react to catastrophic ev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5 times more likely than boy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, or Social Phobia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fectionists displaying excessive concerns about academic perform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arise from modeling of anxious, overprotective parents, anxiety disorder or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pid return to school is most used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may be overcontro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nagement of School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form best treated by parents’ firm, supportive insistence that the child gradually return to scho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form often accompanied by other disorders and requires professional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plexity requires assessment and therapy tailored to individual ch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 based and emphasizes role of modeling in development of f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ck of self-confidence leads to dwelling on possibility of losing contro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Learning and Cognitive Approaches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necessarily fear things that can harm them (automobiles, drown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need to teach children realistic fears and help them overcome unrealistic o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aspects have become incorporated into mainstream of child psychotherap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diagnostic criter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rug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voxamine – well tolerated and acts rapidly in short ter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ng-term effects unkn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shea</cp:lastModifiedBy>
  <dcterms:modified xsi:type="dcterms:W3CDTF">2011-02-05T18:29:18Z</dcterms:modified>
  <cp:revision>9</cp:revision>
  <dc:subject/>
  <dc:title>Chapter 7</dc:title>
</cp:coreProperties>
</file>