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8CE-FF0F-4F12-8BCD-E40463A0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D4E-7D5D-4E2A-BBEE-63814817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297-D3FD-4956-9F3E-669D3BC8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1C0-469C-4C54-96C8-B2BF4AA7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836-CCC6-4086-A94B-C300388C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AB4-6DCA-4B55-9859-8BF0A83A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7D8-D12F-4D73-AD46-41978769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F59-5E99-44B6-BA0C-BC2BC8EA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768-8C9A-4B51-8F1B-62AD9B0C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484-64E2-43E7-B932-3C6B3959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46D-FE70-4F70-B1DC-C3480FE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F2A-CB60-43C4-89BB-A9D9C97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ADA6-C648-4929-8545-A22A6B537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r. Shea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, Posttraumatic Stress, and Obsessive-Compuls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gender and developmental differences in how people react to catastroph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5 times more likely than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ectionists displaying excessive concerns about academic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rise from modeling of anxious, overprotective parents, anxiety disorder or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return to school is most use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may be overcontro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nagement of School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form best treated by parents’ firm, supportive insistence that the child gradually return to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form often accompanied by other disorders and requires professional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ity requires assessment and therapy tailored to individual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based and emphasizes role of modeling in development of f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elf-confidence leads to dwelling on possibility of losing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necessarily fear things that can harm them (automobiles, drow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need to teach children realistic fears and help them overcome unrealistic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spects have become incorporated into mainstream of child psycho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diagnostic criter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rug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voxamine – well tolerated and acts rapidly in short te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effects 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shea</cp:lastModifiedBy>
  <dcterms:modified xsi:type="dcterms:W3CDTF">2011-02-05T18:29:18Z</dcterms:modified>
  <cp:revision>9</cp:revision>
  <dc:subject/>
  <dc:title>Chapter 7</dc:title>
</cp:coreProperties>
</file>