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87A-BDAF-4EFE-AC30-7DAA87D6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580-4946-435D-B5C9-355D770A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2E5-FD78-4B0D-8588-BE1C559A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1D6-2E26-47EC-887A-3ADEDCAE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3D3-DC4D-47BA-B7A0-4FF0304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ECD-9806-419E-AD84-613E70C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9C2D-0A9D-4460-8B80-5C1EF2A4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07D-3826-43B9-B4C0-7EE6A3E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E63-B20D-4961-8E4B-3292482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3B3-90BA-4A03-9D21-C640F7A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CEE-2C7B-45FE-B001-7866AB8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DCC-8AB5-4FC2-8756-CFFEE0A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9A8-A4EF-4860-B8F2-3E85DD69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8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 and Other Mood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ne Shea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Family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and Depression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ce as many women as men suffer from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in childhood depression not ap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depression rates increase dramatically during puberty, but boys’ do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generally welcome signs of physical maturation; girls experience more conflict about their changing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coping – Boys expected to overcome stress on their own – Girls are expected to need more comf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Risk Factors for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se Family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own mental health, not able to to provide adequate emotional support, model depres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viol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’s Con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infants temperamentally negative and are management challenge for mothers.  Can undermine parents’ ability to be good careta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teen experiences one major depressive episode (after a romantic break-up for example) more likely to have recurrence when faced with even less severe stress in fu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jor Theories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905120"/>
          <a:ext cx="8763120" cy="4733640"/>
        </p:xfrm>
        <a:graphic>
          <a:graphicData uri="http://schemas.openxmlformats.org/drawingml/2006/table">
            <a:tbl>
              <a:tblPr/>
              <a:tblGrid>
                <a:gridCol w="2286000"/>
                <a:gridCol w="3352680"/>
                <a:gridCol w="3124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ispos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cipitat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analy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titutional over reliance on oral stim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or imagined loss or rej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insecurity, early 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rej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ck’s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arly rejection, loss,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disappoin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rned helplessness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avoidable pain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traumatic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ly demanding parents, inadequate c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eat to self-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inforcement-loss 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necessary pre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ive reduction in reinfor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0" y="1523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iological Basis of Depression: Genetic, Brain and Biochemical Funct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research suggests a substantial genetic contribution to depressive disorders in adul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basis less clear for childhood onset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itability has larger role in less sever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 has stronger influence on severe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medications for depression does not prove biologic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 examining sensitive periods in neur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developed for adults; effects on children un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RI’s prescribed for children before effectiveness pro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is known about potential haz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 behavioral therapy can help youngsters manage depression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s emphasis that depression comes from life stress; teaches new skills to deal with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s with long-term effectiveness are stil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nosis for Depresse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established, adolescent depression is not easy to over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to 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mental health professional if child feels miserable for 2 week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you understand child is suffering and you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urge depressed children to cheer up and use will power to overcome their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facili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istory of thinking about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thought to only to be strictly an adul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once considered naturally happ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vulnerable to depression under adverse genetic and environment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ubescent depression sufferers rarely suffer become suicid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evention in Infants an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tion programs for depressed, stressed single-moth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dler-parent psych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for postpartum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rams for School-Age 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nn optimism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relaxation and assertiveness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cognitive and social problem solv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term benefits yet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stronger in boys tha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ren under 12;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ading cause of death in 15-24 year 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psychiatr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ressive thought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dequate coping 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or health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attem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irls have these risk factors and attempt suicide more than boys.  But, boys actually kill themselves more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uicidal youngsters not depressed, but have different moti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suicide more often associated with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ultural and Social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laces like Japan, suicide is an honored tradition; rates are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consistently high on Indian reser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culture, lack of acceptance and opportunity in majority culture leads to hope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high in decaying, violent inner c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High among Gay and Lesbian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 Prevention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ing all means to commit suicide until person calms down and receives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ve action is requi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ing a life is more important than preserving privacy or sparing someone’s fee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wareness of childhood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hysicians began to realize that children could be clinically de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rights to mental health treatment, including relief from anxiety and depression, received increased public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on genetics of emotional disorders flour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iable measures of depression became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es of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Episode – may follow identifiable loss or severe stress, but doesn’t have to be an obvious preceding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Disorder – diagnosed when two or more major depressive epis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olar Disorder – (manic depressive disorder) person switches between normal mood, depressive moods and hyper excited manic mo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c episodes – inexplicable exhilaration, tireless activity, sleeplessness, talkativeness, impul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ppears in early adult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Depression – (subclinical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 feels and appears depressed but doesn’t meet all diagnostic criteria for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occurs after stressful events and usually f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thymic disorder – (dysthymia) persistent mild depression that interferes with functioning or causes person significant stress over an extended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gin in early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evelop into more serious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Cold” of psychiatric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able depression much less frequent in children than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rare befor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gradually climb during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climb rapidly in adol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agers more likely to experience other psychological disorders with depression.  Other disorders can mask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ders occurring together tend to be more sev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ge Differences in Depressive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parate category for childhood depression in DSM-IV-T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know what it is and are unable to report feelings of depression to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express their depression through somatic or physical compl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7:55Z</dcterms:created>
  <dc:creator>DMONEYPENNY</dc:creator>
  <dc:description/>
  <dc:language>en-US</dc:language>
  <cp:lastModifiedBy>dshea</cp:lastModifiedBy>
  <dcterms:modified xsi:type="dcterms:W3CDTF">2011-02-05T18:41:51Z</dcterms:modified>
  <cp:revision>9</cp:revision>
  <dc:subject/>
  <dc:title>Chapter 8</dc:title>
</cp:coreProperties>
</file>