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EBD-54E9-4D05-BBAE-76DD231D7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AEF-F411-4A6B-994E-7ACFC223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E544-E3D8-4879-BCA8-39510DDD1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D5C2-38BA-42C4-A765-DF04F5DA8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E25-D87E-4FC4-9CF0-75C1E30A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5600-6EE8-4E6B-81D9-1C8192EA1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5AB3-0B55-4F1E-AB91-48ACE860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72F0-5E3D-467F-B1D8-51D3CAD8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5A33-47A1-4328-982E-4A636EF3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86F3-B8A1-4F07-B60E-8B7412AB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A8DB-58C8-4795-BE05-1CAA8E6B5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11E1-4E83-471A-B7A7-2AF75EB41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D4D2E-5A3F-4736-B20C-8CB704BF2B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apter 8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 and Other Mood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ne Shea, Ph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Family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 Differences and Depression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ce as many women as men suffer from major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 differences in childhood depression not ap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depression rates increase dramatically during puberty, but boys’ do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generally welcome signs of physical maturation; girls experience more conflict about their changing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s in coping – Boys expected to overcome stress on their own – Girls are expected to need more comf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Risk Factors for Mood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rse Family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s own mental health, not able to to provide adequate emotional support, model depres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viole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’s Contrib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infants temperamentally negative and are management challenge for mothers.  Can undermine parents’ ability to be good caretak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teen experiences one major depressive episode (after a romantic break-up for example) more likely to have recurrence when faced with even less severe stress in fu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ajor Theories of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905120"/>
          <a:ext cx="8763120" cy="4733640"/>
        </p:xfrm>
        <a:graphic>
          <a:graphicData uri="http://schemas.openxmlformats.org/drawingml/2006/table">
            <a:tbl>
              <a:tblPr/>
              <a:tblGrid>
                <a:gridCol w="2286000"/>
                <a:gridCol w="3352680"/>
                <a:gridCol w="312444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isposing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cipitating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ychoanaly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titutional over reliance on oral stim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l or imagined loss or rej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tachment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tachment insecurity, early 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reje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ck’s Cognitive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arly rejection, loss, or fai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disappoin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arned helplessness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avoidable pain or fai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traumatic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cognitive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ly demanding parents, inadequate co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reat to self-effic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inforcement-loss 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necessary predispo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ive reduction in reinforc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0" y="15238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iological Basis of Depression: Genetic, Brain and Biochemical Function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research suggests a substantial genetic contribution to depressive disorders in adult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basis less clear for childhood onset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itability has larger role in less sever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 has stronger influence on severe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ness of medications for depression does not prove biological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ers examining sensitive periods in neural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developed for adults; effects on children unt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RI’s prescribed for children before effectiveness pro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is known about potential hazar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 behavioral therapy can help youngsters manage depression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s emphasis that depression comes from life stress; teaches new skills to deal with 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s with long-term effectiveness are stil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ognosis for Depressed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established, adolescent depression is not easy to over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s to fol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mental health professional if child feels miserable for 2 weeks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you understand child is suffering and you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urge depressed children to cheer up and use will power to overcome their un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facilit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istory of thinking about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thought to only to be strictly an adult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once considered naturally happ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vulnerable to depression under adverse genetic and environmental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ubescent depression sufferers rarely suffer become suicid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evention in Infants and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tion programs for depressed, stressed single-moth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dler-parent psych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s for postpartum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ograms for School-Age 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nn optimism progra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in relaxation and assertiveness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in cognitive and social problem solv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term benefits yet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stronger in boys than gir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icid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re in children under 12;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ading cause of death in 15-24 year 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ing 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justment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psychiatric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ressive thought patte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adequate coping sty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 or health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attem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girls have these risk factors and attempt suicide more than boys.  But, boys actually kill themselves more 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uicidal youngsters not depressed, but have different moti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d suicide more often associated with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ultural and Social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laces like Japan, suicide is an honored tradition; rates are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is consistently high on Indian reserv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 of culture, lack of acceptance and opportunity in majority culture leads to hope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is high in decaying, violent inner c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High among Gay and Lesbian 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icide Prevention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ing all means to commit suicide until person calms down and receives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ve action is requir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ing a life is more important than preserving privacy or sparing someone’s feel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wareness of childhood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care physicians began to realize that children could be clinically de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rights to mental health treatment, including relief from anxiety and depression, received increased public re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on genetics of emotional disorders flour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iable measures of depression became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es of Mood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epressive Episode – may follow identifiable loss or severe stress, but doesn’t have to be an obvious preceding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epressive Disorder – diagnosed when two or more major depressive epis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polar Disorder – (manic depressive disorder) person switches between normal mood, depressive moods and hyper excited manic moo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ic episodes – inexplicable exhilaration, tireless activity, sleeplessness, talkativeness, impul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appears in early adult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re in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Depression – (subclinical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 feels and appears depressed but doesn’t meet all diagnostic criteria for major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occurs after stressful events and usually fad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sthymic disorder – (dysthymia) persistent mild depression that interferes with functioning or causes person significant stress over an extended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gin in early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develop into more serious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evalence of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Cold” of psychiatric ill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osable depression much less frequent in children than adul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rare before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s gradually climb during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s climb rapidly in adolesc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agers more likely to experience other psychological disorders with depression.  Other disorders can mask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ders occurring together tend to be more sev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ge Differences in Depressive 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eparate category for childhood depression in DSM-IV-T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don’t know what it is and are unable to report feelings of depression to adul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express their depression through somatic or physical compl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7:55Z</dcterms:created>
  <dc:creator>DMONEYPENNY</dc:creator>
  <dc:description/>
  <dc:language>en-US</dc:language>
  <cp:lastModifiedBy>dshea</cp:lastModifiedBy>
  <dcterms:modified xsi:type="dcterms:W3CDTF">2011-02-05T18:41:51Z</dcterms:modified>
  <cp:revision>9</cp:revision>
  <dc:subject/>
  <dc:title>Chapter 8</dc:title>
</cp:coreProperties>
</file>