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9EC0-0552-409B-AE25-17EEE8B3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527-3809-4043-AD8A-4E72F68A3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28AF-7D8A-4F51-8E06-C0DE8D199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F9CC-2F63-410E-B0DD-3DBE6AE1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F8AB-7087-47E6-96A7-9FA296C6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71E5-776A-4AA4-A879-D3E991B4E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F837-4C9E-4009-84CE-519ADF60E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FB61-0A2F-411D-9B92-0A0C28AA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E9D-78CB-423A-BB89-03BB02140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45DC-5BA5-4E1A-8A31-08316E7E5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A810-99EA-4A4B-9C03-2BD0EAEF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9534-5F6D-4CEB-B779-F8D942A1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14A-17EE-4023-9E74-CDBC8F7B14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8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ression and Other Mood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ane Shea, Ph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ly Family Univers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and Depression Rat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ice as many women as men suffer from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x differences in childhood depression not appar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rls depression rates increase dramatically during puberty, but boys’ do no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generally welcome signs of physical maturation; girls experience more conflict about their changing bod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ces in coping – Boys expected to overcome stress on their own – Girls are expected to need more comfor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Risk Factors for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verse Family Environm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ents own mental health, not able to to provide adequate emotional support, model depressiv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violenc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’s Contrib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infants temperamentally negative and are management challenge for mothers.  Can undermine parents’ ability to be good caretak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a teen experiences one major depressive episode (after a romantic break-up for example) more likely to have recurrence when faced with even less severe stress in fu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ajor Theories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52280" y="1905120"/>
          <a:ext cx="8763120" cy="4733640"/>
        </p:xfrm>
        <a:graphic>
          <a:graphicData uri="http://schemas.openxmlformats.org/drawingml/2006/table">
            <a:tbl>
              <a:tblPr/>
              <a:tblGrid>
                <a:gridCol w="2286000"/>
                <a:gridCol w="3352680"/>
                <a:gridCol w="3124440"/>
              </a:tblGrid>
              <a:tr h="51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dispos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recipitating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Psychoanalytic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onstitutional over reliance on oral stimul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al or imagined loss or rejec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ttachment insecurity, early lo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rejection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Beck’s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Early rejection, loss,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disappoint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Learned helplessness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Unavoidable pain or fail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jor loss or traumatic ev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ocial cognitive theor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Overly demanding parents, inadequate copin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reat to self-efficac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Reinforcement-loss 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 necessary predisposi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assive reduction in reinforc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0" y="1523880"/>
          <a:ext cx="182520" cy="51768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iological Basis of Depression: Genetic, Brain and Biochemical Function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ch research suggests a substantial genetic contribution to depressive disorders in adultho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basis less clear for childhood onset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ritability has larger role in less severe 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vironment has stronger influence on severe for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ness of medications for depression does not prove biological b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searchers examining sensitive periods in neural develop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depressant 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developed for adults; effects on children untes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SRI’s prescribed for children before effectiveness prov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ttle is known about potential hazard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 behavioral therapy can help youngsters manage depression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urses emphasis that depression comes from life stress; teaches new skills to deal with str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reatments with long-term effectiveness are still nee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nosis for Depresse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established, adolescent depression is not easy to overc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eps to follow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ll mental health professional if child feels miserable for 2 weeks or m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you understand child is suffering and you understa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n’t urge depressed children to cheer up and use will power to overcome their unhappi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 a facilita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History of thinking about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ce thought to only to be strictly an adul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once considered naturally happy.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t vulnerable to depression under adverse genetic and environmental condi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pubescent depression sufferers rarely suffer become suicidal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evention in Infants and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vention programs for depressed, stressed single-mother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ddler-parent psycho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grams for postpartum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rograms for School-Age  Children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enn optimism progra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relaxation and assertiveness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ining in cognitive and social problem solving skil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nger term benefits yet to be demonstra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ffects stronger in boys than gir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ren under 12; 3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rd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eading cause of death in 15-24 year o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rning Sig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djustment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psychiatric disor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pressive thought patte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dequate coping sty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chool or health proble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st attemp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girls have these risk factors and attempt suicide more than boys.  But, boys actually kill themselves more oft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suicidal youngsters not depressed, but have different motiv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d suicide more often associated with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ultural and Social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places like Japan, suicide is an honored tradition; rates are hi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consistently high on Indian reserv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s of culture, lack of acceptance and opportunity in majority culture leads to hope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is high in decaying, violent inner c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 High among Gay and Lesbian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uicide Prevention</a:t>
            </a: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oving all means to commit suicide until person calms down and receives couns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cisive action is requir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aving a life is more important than preserving privacy or sparing someone’s feel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wareness of childhood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imary care physicians began to realize that children could be clinically depress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’s rights to mental health treatment, including relief from anxiety and depression, received increased public recogni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on genetics of emotional disorders flourish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y reliable measures of depression became avail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es of Mood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Episode – may follow identifiable loss or severe stress, but doesn’t have to be an obvious preceding ev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jor Depressive Disorder – diagnosed when two or more major depressive episo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polar Disorder – (manic depressive disorder) person switches between normal mood, depressive moods and hyper excited manic moo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nic episodes – inexplicable exhilaration, tireless activity, sleeplessness, talkativeness, impulsive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ually appears in early adult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re in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7724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nor Depression – (subclinical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on feels and appears depressed but doesn’t meet all diagnostic criteria for major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ly occurs after stressful events and usually fad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sthymic disorder – (dysthymia) persistent mild depression that interferes with functioning or causes person significant stress over an extended peri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gin in early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develop into more serious dep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 of Depr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Cold” of psychiatric illn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agnosable depression much less frequent in children than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rare before 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gradually climb during childh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tes climb rapidly in adolesc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enagers more likely to experience other psychological disorders with depression.  Other disorders can mask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ders occurring together tend to be more sev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Age Differences in Depressive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 separate category for childhood depression in DSM-IV-T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don’t know what it is and are unable to report feelings of depression to adul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likely to express their depression through somatic or physical complai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7:55Z</dcterms:created>
  <dc:creator>DMONEYPENNY</dc:creator>
  <dc:description/>
  <dc:language>en-US</dc:language>
  <cp:lastModifiedBy>dshea</cp:lastModifiedBy>
  <dcterms:modified xsi:type="dcterms:W3CDTF">2011-02-05T18:41:51Z</dcterms:modified>
  <cp:revision>9</cp:revision>
  <dc:subject/>
  <dc:title>Chapter 8</dc:title>
</cp:coreProperties>
</file>