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7F19-20F2-4604-B692-A3EE15E8D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FA31-2FEE-4301-898B-6821AC7D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B44A-031A-4686-A916-1B9C95F24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72800-71E0-4ED9-A130-7A225D9F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BAB3-B692-4192-9C5C-CF1D7BEE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24EA-3113-4668-8E59-838887875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6726-D173-4844-A4CC-5B0D76BC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9EFF-4F5D-4434-901A-418CB205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97E7-3308-45BC-B50E-29A2FD87E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9F30-3DB8-467C-B642-633CF06F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E4EC-9019-4A8B-950F-4AD2886DE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04E7-89E2-4190-BD6D-B5F98594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4536-B82D-42B3-9994-3DBA67311F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0" y="1600200"/>
            <a:ext cx="6095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ention-Deficit/Hyperactivity Dis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cation reduces activity, but does not automatically increase academic performance in long-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sues of side effects from from resol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om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ound irri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d appeti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dach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Behavior Management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rgeted behavior techniques seem effective but don’t guarantee academic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iques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reinforcement for on-task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e cost for inappropriate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gnitive-behavioral modification emphasizing self-control and self-reinfor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s key in any behavior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effective when parents receive specific management 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odal (behavior management and and medication) intervention tend to be more effect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imes New Roman"/>
              </a:rPr>
              <a:t>Defining Attention-Deficit/Hyperactivity Disorder (DSM-IV-TR)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A: persistent pattern of inattention and/or hyperactivity-impuls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B:  Some interactive-impulsive or inattentive symptoms that cause impairment present before 7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C: Some impairment from symptoms present in at least two set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D: Clear evidence of interference with developmentally appropriate function g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E: Disturbance does not occur exclusively during course of pervasive developmental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hree major characteristic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attention – central characteri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ulsivity – poor self-control, excitability, inability to delay grat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activity – interpretation of activity levels difficult due to lack of n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iates from children with ADD (attention deficit disord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Possible Caus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c Brain Damage – long associated with overactivity and poor impulse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with ADHD show abnormalities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ntal lo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al gangl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ebell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rotransmitter imbal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ective inhibitory system.  Use of stimulant medication aimed at restoring balance between inhibitory and excitatory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research needed in this ar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Genetic Factor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studies (Studying parents, studying twins) indicate that heredity does play a r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ct role is difficult to determ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Environmental Facto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ing exposure to harmful stresses in environment (pollution, toxins, additives in foods) implicated in higher rates of ADH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natal exposure to alcohol, nicotine is a heavy predi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sure to toxins in childhood  (lead paint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additives have received attention in past but empirical evidence doesn’t reveal a l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Multiple Caus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ing evidence that biological and genetic causes are k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al causes interrupt important neurological proce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reatment: Medical Approach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nt Med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controversial current trea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s in behavioral improvement in 80% of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mulant arouses frontal lobe of brain (regulatory influences) and improves impulse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4:03:08Z</dcterms:created>
  <dc:creator>DMONEYPENNY</dc:creator>
  <dc:description/>
  <dc:language>en-US</dc:language>
  <cp:lastModifiedBy>dshea</cp:lastModifiedBy>
  <dcterms:modified xsi:type="dcterms:W3CDTF">2012-06-11T20:08:06Z</dcterms:modified>
  <cp:revision>5</cp:revision>
  <dc:subject/>
  <dc:title>Chapter 9</dc:title>
</cp:coreProperties>
</file>