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CC7-6965-4B9B-B1EC-45DDAC9D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B930-08D1-438A-9E9F-D78161BF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4B3E-1B37-4C4C-B39C-4A90CDBA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F0F-1B3A-47E5-88B8-2483AA58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672-68D0-436C-B134-3E76743E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60A-B3A1-43FA-AFCF-2DBF2348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2E5-95FF-4715-95EC-AD975446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0F4-4A07-4F4D-AFDE-6EDA0B97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917-2DA3-48D2-8CC9-4A1BEA83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124-03DD-4CFC-A467-734BDE04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D7B-EB2D-4C92-ADFF-DBFF2D96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2C42-FE73-42A9-86A8-687AC039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9165-44F1-4E5E-84A5-1A4265E4BB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tion-Deficit/Hyperactivity Dis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tion reduces activity, but does not automatically increase academic performance in long-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ues of side effects from from res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om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ound 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appeti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dach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Behavior Management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rgeted behavior techniques seem effective but don’t guarantee academic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ques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reinforcement for on-task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e cost for inappropriat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gnitive-behavioral modification emphasizing self-control and self-reinfor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key in any behavio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effective when parents receive specific management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odal (behavior management and and medication) intervention tend to be more effec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Defining Attention-Deficit/Hyperactivity Disorder (DSM-IV-TR)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A: persistent pattern of inattention and/or hyperactivity-impuls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B:  Some interactive-impulsive or inattentive symptoms that cause impairment present before 7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C: Some impairment from symptoms present in at least two set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D: Clear evidence of interference with developmentally appropriate function g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E: Disturbance does not occur exclusively during course of pervasive developmental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ree major characteristic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attention – central character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lsivity – poor self-control, excitability, inability to delay grat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activity – interpretation of activity levels difficult due to lack of n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iates from children with ADD (attention deficit disord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Possible Caus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c Brain Damage – long associated with overactivity and poor impuls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with ADHD show abnormaliti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ntal lo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al gangl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ebell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rotransmitter imbal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ective inhibitory system.  Use of stimulant medication aimed at restoring balance between inhibitory and excitatory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research needed in this a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Genetic Factor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studies (Studying parents, studying twins) indicate that heredity does play a r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ct role is difficult to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Environmental Facto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exposure to harmful stresses in environment (pollution, toxins, additives in foods) implicated in higher rates of ADH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natal exposure to alcohol, nicotine is a heavy predi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ure to toxins in childhood  (lead pain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additives have received attention in past but empirical evidence doesn’t reveal a 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Multiple Caus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evidence that biological and genetic causes are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causes interrupt important neurological proc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reatment: Medical Approach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nt Med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controversial current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in behavioral improvement in 80% of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nt arouses frontal lobe of brain (regulatory influences) and improves impulse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4:03:08Z</dcterms:created>
  <dc:creator>DMONEYPENNY</dc:creator>
  <dc:description/>
  <dc:language>en-US</dc:language>
  <cp:lastModifiedBy>dshea</cp:lastModifiedBy>
  <dcterms:modified xsi:type="dcterms:W3CDTF">2012-06-11T20:08:06Z</dcterms:modified>
  <cp:revision>5</cp:revision>
  <dc:subject/>
  <dc:title>Chapter 9</dc:title>
</cp:coreProperties>
</file>