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C49-0894-4D6D-B7EA-FEFBB47C5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9D38-FD22-4289-AA80-68AF7DFE2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3E1-9100-42A3-B151-0C14F6D1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83EF-F83D-490B-82EF-3AF7683D1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3C8C-6D2E-47C4-B48C-7BD6AA07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EA70-C1CE-4314-90C3-15771B002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C7B7-8941-4D24-BF72-52A91A1D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F161-68BF-4DB1-96D4-8E0F8525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EC1C-6F5B-4A18-B79D-DB5EA98F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2EC6-23D4-4DF2-B6EF-F5921A2A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AF86-7B3C-4301-B23A-5E5AEB1E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3281-BC5B-46A2-BA0D-370FE57D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84E1-EC64-402D-9316-3685FEB45F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ention-Deficit/Hyperactivity Dis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cation reduces activity, but does not automatically increase academic performance in long-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sues of side effects from from res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om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ound irri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d appeti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dach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Behavior Management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rgeted behavior techniques seem effective but don’t guarantee academic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iques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reinforcement for on-task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e cost for inappropriate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gnitive-behavioral modification emphasizing self-control and self-reinfor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key in any behavior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effective when parents receive specific management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odal (behavior management and and medication) intervention tend to be more effec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imes New Roman"/>
              </a:rPr>
              <a:t>Defining Attention-Deficit/Hyperactivity Disorder (DSM-IV-TR)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A: persistent pattern of inattention and/or hyperactivity-impuls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B:  Some interactive-impulsive or inattentive symptoms that cause impairment present before 7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C: Some impairment from symptoms present in at least two set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D: Clear evidence of interference with developmentally appropriate function g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E: Disturbance does not occur exclusively during course of pervasive developmental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hree major characteristic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attention – central characteri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ulsivity – poor self-control, excitability, inability to delay grat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activity – interpretation of activity levels difficult due to lack of n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iates from children with ADD (attention deficit disord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Possible Caus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c Brain Damage – long associated with overactivity and poor impuls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with ADHD show abnormalities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ntal lo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al gangl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ebell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rotransmitter imbal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ective inhibitory system.  Use of stimulant medication aimed at restoring balance between inhibitory and excitatory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research needed in this ar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Genetic Factor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studies (Studying parents, studying twins) indicate that heredity does play a r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ct role is difficult to determ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Environmental Facto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ing exposure to harmful stresses in environment (pollution, toxins, additives in foods) implicated in higher rates of ADH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natal exposure to alcohol, nicotine is a heavy predi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sure to toxins in childhood  (lead paint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additives have received attention in past but empirical evidence doesn’t reveal a l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Multiple Caus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ing evidence that biological and genetic causes are k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al causes interrupt important neurological proc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reatment: Medical Approach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nt Med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controversial current 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s in behavioral improvement in 80% of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ant arouses frontal lobe of brain (regulatory influences) and improves impulse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4:03:08Z</dcterms:created>
  <dc:creator>DMONEYPENNY</dc:creator>
  <dc:description/>
  <dc:language>en-US</dc:language>
  <cp:lastModifiedBy>dshea</cp:lastModifiedBy>
  <dcterms:modified xsi:type="dcterms:W3CDTF">2012-06-11T20:08:06Z</dcterms:modified>
  <cp:revision>5</cp:revision>
  <dc:subject/>
  <dc:title>Chapter 9</dc:title>
</cp:coreProperties>
</file>