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9D84-720B-4CEF-B0DD-8FD64720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8D2B-C714-417B-8E25-804314AE4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667E-1610-4409-B17D-23366BE47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952B-F7BE-47C6-98D9-2DA94B50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9A27-E251-4073-8C99-3AABBA4C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7B8-C902-44B7-BAD9-4C3757A76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A89A-9D4E-4343-B6BD-249DCF63D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F332-80E5-4561-94B7-902F9536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BECA-A017-4723-A227-B37B477EF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F68-9C71-4794-AF84-A8332AF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179A-F37B-40B5-A404-93E7D9EE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2EF-0CA0-4D20-8C6E-4863889BF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B3F5-4D17-41AC-A791-586CDAAE5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ttention-Deficit/Hyperactivity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dication reduces activity, but does not automatically increase academic performance in long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sues of side effects from from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somn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bound 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creased appeti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adach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Behavior Management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rgeted behavior techniques seem effective but don’t guarantee academic improv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itive reinforcement for on-task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ponse cost for inappropriate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gnitive-behavioral modification emphasizing self-control and self-reinforc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key in any behavior manage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effective when parents receive specific management train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modal (behavior management and and medication) intervention tend to be more effectiv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00"/>
                </a:solidFill>
                <a:latin typeface="Times New Roman"/>
              </a:rPr>
              <a:t>Defining Attention-Deficit/Hyperactivity Disorder (DSM-IV-TR)</a:t>
            </a:r>
            <a:endParaRPr b="0" lang="en-US" sz="27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A: persistent pattern of inattention and/or hyperactivity-impuls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B:  Some interactive-impulsive or inattentive symptoms that cause impairment present before 7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C: Some impairment from symptoms present in at least two sett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D: Clear evidence of interference with developmentally appropriate function g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iterion E: Disturbance does not occur exclusively during course of pervasive developmental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hree major characteristic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attention – central characteris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ulsivity – poor self-control, excitability, inability to delay grat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veractivity – interpretation of activity levels difficult due to lack of no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iates from children with ADD (attention deficit disorde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Possib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rganic Brain Damage – long associated with overactivity and poor impulse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ny with ADHD show abnormalities i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rontal lob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sal ganglia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erebell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urotransmitter imbal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ective inhibitory system.  Use of stimulant medication aimed at restoring balance between inhibitory and excitatory syst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e research needed in this are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Genetic Factor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enetic studies (Studying parents, studying twins) indicate that heredity does play a r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ct role is difficult to determin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nvironmental Fac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xposure to harmful stresses in environment (pollution, toxins, additives in foods) implicated in higher rates of ADH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enatal exposure to alcohol, nicotine is a heavy predict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osure to toxins in childhood  (lead paint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od additives have received attention in past but empirical evidence doesn’t reveal a lin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Multiple Caus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creasing evidence that biological and genetic causes are ke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vironmental causes interrupt important neurological proce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Treatment: Medical Approaches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imulant 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controversial current treat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s in behavioral improvement in 80% of cas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imulant arouses frontal lobe of brain (regulatory influences) and improves impulse contr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4:03:08Z</dcterms:created>
  <dc:creator>DMONEYPENNY</dc:creator>
  <dc:description/>
  <dc:language>en-US</dc:language>
  <cp:lastModifiedBy>dshea</cp:lastModifiedBy>
  <dcterms:modified xsi:type="dcterms:W3CDTF">2012-06-11T20:08:06Z</dcterms:modified>
  <cp:revision>5</cp:revision>
  <dc:subject/>
  <dc:title>Chapter 9</dc:title>
</cp:coreProperties>
</file>