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6C42-7D3B-4A8C-9792-1F96AF84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7DB-918D-4E2D-B24C-8CB06B66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ABA-42EA-41E6-93C4-8FA875A1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302-0DE3-4BF9-89BC-817512E1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60F5-C8D9-4A9C-9AAB-F3EEA7B1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050C-6717-4DEE-BA8D-F99CD832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987-FF29-440A-9D33-A1279D51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0FDA-738F-4AB9-9417-E353A0C3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A5A0-E214-4417-9AE9-4C0570B5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075-A26E-4130-A234-980EC803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A41-CB77-4EA4-AA2F-AFCB2C76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6CBD-E685-4F29-AF9E-464CA60C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98E9-1CCD-4398-B753-5A272D6758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ntion-Deficit/Hyperactivity Dis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tion reduces activity, but does not automatically increase academic performance in long-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sues of side effects from from res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om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ound 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d appeti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dach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Behavior Management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rgeted behavior techniques seem effective but don’t guarantee academic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ques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reinforcement for on-task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e cost for inappropriat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gnitive-behavioral modification emphasizing self-control and self-reinfor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key in any behavior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effective when parents receive specific management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odal (behavior management and and medication) intervention tend to be more effec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Defining Attention-Deficit/Hyperactivity Disorder (DSM-IV-TR)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A: persistent pattern of inattention and/or hyperactivity-impuls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B:  Some interactive-impulsive or inattentive symptoms that cause impairment present before 7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C: Some impairment from symptoms present in at least two set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D: Clear evidence of interference with developmentally appropriate function g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E: Disturbance does not occur exclusively during course of pervasive developmental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hree major characteristic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attention – central characteri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ulsivity – poor self-control, excitability, inability to delay grat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activity – interpretation of activity levels difficult due to lack of n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iates from children with ADD (attention deficit disord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Possible Caus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c Brain Damage – long associated with overactivity and poor impuls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with ADHD show abnormaliti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ntal lo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al gangl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ebell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rotransmitter imbal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ective inhibitory system.  Use of stimulant medication aimed at restoring balance between inhibitory and excitatory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research needed in this a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Genetic Factor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studies (Studying parents, studying twins) indicate that heredity does play a r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ct role is difficult to deter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Environmental Facto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exposure to harmful stresses in environment (pollution, toxins, additives in foods) implicated in higher rates of ADH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natal exposure to alcohol, nicotine is a heavy predi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sure to toxins in childhood  (lead paint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additives have received attention in past but empirical evidence doesn’t reveal a l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Multiple Caus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evidence that biological and genetic causes are 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causes interrupt important neurological proc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reatment: Medical Approach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nt Med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controversial current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s in behavioral improvement in 80% of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ant arouses frontal lobe of brain (regulatory influences) and improves impulse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4:03:08Z</dcterms:created>
  <dc:creator>DMONEYPENNY</dc:creator>
  <dc:description/>
  <dc:language>en-US</dc:language>
  <cp:lastModifiedBy>dshea</cp:lastModifiedBy>
  <dcterms:modified xsi:type="dcterms:W3CDTF">2012-06-11T20:08:06Z</dcterms:modified>
  <cp:revision>5</cp:revision>
  <dc:subject/>
  <dc:title>Chapter 9</dc:title>
</cp:coreProperties>
</file>