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42C8-43A9-44FA-8126-10FA52CB9E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2AC1-3CC3-424F-82A6-E3BA458A2CE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FB84-9F42-47C7-8F6C-855441E6B1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49931-FC13-45FE-934B-9AFFDB51FDC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EA5F-6918-4FDA-B03F-49D16654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E7DC-B1BE-46D3-A9BB-6BFF4F3F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6AB-3589-4D02-B2D9-EA6F6C622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3FA4-FC8C-4238-BF67-2448BC6E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7FD-9CDA-4082-9CE7-D88FFB417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D55C-78C2-492F-8111-FF2FAAC4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2AFD-6681-48BE-A370-17C65EC9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304B-CB8B-4867-8B8E-47A6B820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1D96-51F7-4DC0-B757-0F3CCD01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F068-7417-40A2-8D66-16A21D95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001D-BEB1-4634-8E76-40D3CFC7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42CF-DCC8-4C8C-8BAC-4B2D59B0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95DE9-A650-4FE8-95DC-1A4BE73552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bsnews.com/stories/2004/08/20/earlyshow/living/parenting/main637427.shtml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RmBJhtys9g&amp;feature=fvw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nYWDHpFnFE&amp;feature=related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pz3I6alycc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t0ucxOrPQE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E5F-FjbTRk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Tx8Ct43wPQ" TargetMode="External"/><Relationship Id="rId2" Type="http://schemas.openxmlformats.org/officeDocument/2006/relationships/hyperlink" Target="http://www.youtube.com/watch?v=POJ-YuXBk6I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ilymotion.com/video/xhffk1_school-phobia-crippling-for-some-students_news" TargetMode="External"/><Relationship Id="rId2" Type="http://schemas.openxmlformats.org/officeDocument/2006/relationships/hyperlink" Target="http://www.5min.com/Video/How-to-Treat-a-School-Phobia-66527717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COUN 575</a:t>
            </a:r>
            <a:br>
              <a:rPr sz="3400"/>
            </a:b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Diane Shea, Ph.D.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xiety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819520" y="4321080"/>
            <a:ext cx="3733560" cy="2536920"/>
          </a:xfrm>
          <a:prstGeom prst="rect">
            <a:avLst/>
          </a:prstGeom>
          <a:ln w="0">
            <a:noFill/>
          </a:ln>
        </p:spPr>
      </p:pic>
      <p:pic>
        <p:nvPicPr>
          <p:cNvPr id="52" name="SUSPENSE.WAV" descr=""/>
          <p:cNvPicPr/>
          <p:nvPr/>
        </p:nvPicPr>
        <p:blipFill>
          <a:blip r:embed="rId2"/>
          <a:stretch/>
        </p:blipFill>
        <p:spPr>
          <a:xfrm>
            <a:off x="1371600" y="48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58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eparation Anxiety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cbsnews.com/stories/2004/08/20/earlyshow/living/parenting/main637427.s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child grows less rather than more tolerant of separations from one or both pa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most common childhood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 excessive age-inappropriate worries about s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 refusal can be a form (DSM-IV) although some classify as sep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304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Generalized Anxiety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dRmBJhtys9g&amp;feature=fv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controllable, excessive anxiety and worry, occurring consistently for 6 months, extending to many events and activ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shows one of following in extreme form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less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iculty in concentr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cle tension or sleep disturb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6858000" y="4280040"/>
            <a:ext cx="182880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GAD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2388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 may be insecure, perfectionist (resembles OC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mpanied by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spread anxiety in many different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bnYWDHpFnFE&amp;feature=rel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6469200" y="5105520"/>
            <a:ext cx="257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iagnosi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diagn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lap of symptoms of anxiety, mood and other internalizing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s heavily on self-reported anxiety, fear or depression, difficult for young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ocial Phobia or Social Anxiety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npz3I6aly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www.socialanxietyinstitute.org/video-2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erage onset is 15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d by extreme self-consciousness and incapacitating anxiety in social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urs twice as often in women as men, but men are more likely to seek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ocial Anxiety Disorder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laining about pervasive fear of being observed, judged negative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ant concern about inadvertently doing things that are humilia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ry far in advance of social situ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aks at informal gatherings rather than at formal situations or presentations, which are highly scrip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353040" cy="2278080"/>
          </a:xfrm>
          <a:prstGeom prst="rect">
            <a:avLst/>
          </a:prstGeom>
          <a:ln w="0">
            <a:noFill/>
          </a:ln>
        </p:spPr>
      </p:pic>
      <p:pic>
        <p:nvPicPr>
          <p:cNvPr id="93" name="EXPLODE.WAV" descr=""/>
          <p:cNvPicPr/>
          <p:nvPr/>
        </p:nvPicPr>
        <p:blipFill>
          <a:blip r:embed="rId2"/>
          <a:stretch/>
        </p:blipFill>
        <p:spPr>
          <a:xfrm>
            <a:off x="3124080" y="4952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2136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Vicious Cycl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phobic children are less socially skill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negative reactions from pe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mines self-confidence, leading to further social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553080" y="4191120"/>
            <a:ext cx="20764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chool-Related Avoidance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44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in DSM-IV as separate disorder, but as symptom of separation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avoidance of school motivated by intense fear and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stem from specific pho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indicate generalized anxiety or separation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934320" y="4114800"/>
            <a:ext cx="17334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wo Types of Refusal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1980720"/>
            <a:ext cx="6629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d acute school ref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s younger children, little or no family discord, sudden on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chronic school ref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 in children over 11 from unstable fami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781680" y="4114800"/>
            <a:ext cx="1905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Etiology of Anxiety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448160" y="3666960"/>
            <a:ext cx="4238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SM-IV-TR</a:t>
            </a:r>
            <a:br>
              <a:rPr sz="3800"/>
            </a:b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440" y="182844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P. 42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nic Disorder Without Agorapho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oraphobia  Without History of  P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c Pho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ial Pho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ssive-Compulsive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ute Stress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traumatic Stress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ized Anxiety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791320" y="3666960"/>
            <a:ext cx="33526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sychodymanic Theor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ud – psychologically created tension, anxiety, guilt, sexual jealou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day theory loosely based on psychoanalysis, but emphasizes importance of social rather than sexual inte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bic person wants to be center of at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develops specific phobia or anxiety as a way of expressing an unacceptable des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alert.wav" descr=""/>
          <p:cNvPicPr/>
          <p:nvPr/>
        </p:nvPicPr>
        <p:blipFill>
          <a:blip r:embed="rId1"/>
          <a:stretch/>
        </p:blipFill>
        <p:spPr>
          <a:xfrm>
            <a:off x="7620120" y="2666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51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cial Learning and Cognitive/Behavioral  Approach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cal Conditio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Xt0ucxOrPQ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dura’s Self-efficacy the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ople don’t develop fears so much from fright paired with sight of feared object as from anxiety that they cannot successfully avoid feared object and protect themsel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s for Anxiety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o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atic Desensit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tual Re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sure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wE5F-FjbT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SR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ta-bloc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nzodiazep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osttraumatic Stress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2120" y="1752120"/>
            <a:ext cx="7162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d by people who have experienced an extremely devastating ev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and unwilling re-experiencing of traumatic event, persistent attempts to avoid all thoughts and acts related to the event, and a high state of aro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676920" y="5010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st Traumatic Stress Disorder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TS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istent avoidance of stimuli associated with trauma and numbing of general responsive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s thoughts, feelings or conversations associated with tra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s activities, places, people that arouse recollections of the tra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ability to recall an important aspect of tra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minished interest in significant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achment or estrangement of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icted range of aff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se of foreshortened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ost Traumatic Stress Disorde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600200"/>
            <a:ext cx="7696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stent symptoms of increased arou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y falling/staying asle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ritability or outbursts of 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y concentra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vigi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ggerated startle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http://www.pbs.org/now/shows/339/index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http://www.ncptsd.va.gov/ncmain/information/videos.j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http://mefeedia.com/tags/emd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http://www.ncptsd.va.gov/ncmain/ncdocs/videos/emv_hoperecovery_gpv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apted from: DSM-IV-TR, American Psychiatric Association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Biological Contributo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nts in recent research suggests that there may be complex multiple gene contributions to anxiety and panic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of mothers, but not fathers, who have a lifetime history of anxiety disorder are doubly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suggests that stable differences in brain activity may characterize certain children as susceptible to anxiety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048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rognosis for Children with Phobias and Anxiety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early phobias are quickly and effectively treated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nosis is worse for those with severe anxiety disord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y persist only 20%   are eventually overc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ar of physical illness and social anxiety disorder tend to persist throughout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7315200" y="4876920"/>
            <a:ext cx="1600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sychological Intervention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sychodynamic Therap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encouraged to act out fears and fantasies in therapy s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st interprets meaning of fantas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s troubling unconscious feelings transferred from parent to analy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bic reactions disappear without specific intervention when psychological conflicts have been res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Psychological Interventions (continued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iq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nsive and time consum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FOGHORN.WAV" descr=""/>
          <p:cNvPicPr/>
          <p:nvPr/>
        </p:nvPicPr>
        <p:blipFill>
          <a:blip r:embed="rId1"/>
          <a:stretch/>
        </p:blipFill>
        <p:spPr>
          <a:xfrm>
            <a:off x="1143000" y="5486400"/>
            <a:ext cx="6508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3073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SM-IV-T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0720"/>
            <a:ext cx="6934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. 121-134)  Other Disorders of Infancy, Childhood, or Adolesc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paration Anxiety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Mu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ctive Attachment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lTx8Ct43wP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reotypic Movement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youtube.com/watch?v=POJ-YuXBk6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Otherwise Spec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7086600" y="4419720"/>
            <a:ext cx="15620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ystematic Desensitization Therap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4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s place in gradual ste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child’s learning to relax in stress-inducing circumstances by going through fear hierarchies from mild to most seve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ation used to counteract  the muscular tension of anx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youtube.com/watch?v=TwCITgdBzI4&amp;feature=rel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wback: doesn’t teach child to deal with what they fear, so needs to be coupled with other 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Modeling and Guided Participat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 in treating children's specific phobias especially when limited to a particular sit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: Child’s confidence built by watching someone else deal with feared stimu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ided Participation: Carefully supervised confrontations with feared stimulus in natural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gnitive-Behavioral Treatment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faceted cognitive-behavioral treatment very effective, and rigorously tested.  Techniques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ying anxious self-t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ing problem solving and behavioral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D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</a:rPr>
              <a:t>http://vodpod.com/watch/1264747-emdr-effective-for-trauma-pts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rtual Re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Obsessive-Compulsive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440" y="1981080"/>
            <a:ext cx="7162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n rituals or routines reassure young children and provide sense of 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hological obsessive-compulsive behavior consists of attempts to reduce severe anxiety and involves unusual activ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 was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rubbing already spotless surrou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7391520" y="44956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mpulsive Childre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2388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ons can develop without ob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tuals involving washing, repeatedly arranging objects, or checking on location of certain objects over and 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ve children may develop phobias, depression, and neurological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Obs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ssions usually accompany other problems (phobias, depress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ly to persist through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6765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SM-IV-TR for OCD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ssions and compulsions are senseless repeated thoughts, images, or impulses (obsessions) or repetitive acts (compulsions) that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realistic and dysfunc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enced as unwelcome but irresist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enced as products of one’s own mind rather than external thre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tualistic and stereoty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-consum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ruptive of everyday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ypical features for youngst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ssive themes – contamination, aggression, maintaining ultra strict order, fear that family members might be kil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ons – checking under bed constantly, wipe possessions repeatedly, tapping.  Most engage in rituals at home and try to hide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 of Obsessive-Compulsive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ve-Behavioral therapy – most recommended treatment, alone or combined with an SSR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ct with anxiety-provoking event followed by guided, prolonged exposure to feared stimulus,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dden exposure to feared stimulus. To demonstrate that compulsive behavior is not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osttraumatic Stress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pbs.org/now/shows/339/index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ncptsd.va.gov/ncmain/ncdocs/videos/emv_child_trauma_gpv.html?opm=1&amp;rr=rr1541&amp;srt=d&amp;echorr=true#/ncmain/ncdocs/videos/children_trauma/c_t2_children_trauma_5mb.m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d by people who have experienced an extremely devastating ev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and unwilling re-experiencing of traumatic event, persistent attempts to avoid all thoughts and acts related to the event, and a high state of aro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efining Fear and Anxiet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s of anxious children much less obvious, more difficult to ass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 – strong emotional alarm reaction to real or perceived danger.  Sympathetic nervous system stimulates flight or fight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nic – sudden overwhelming state of extreme terror or 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xiety – persistent concern about danger in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102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9047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TSD Symptom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develop immediately or months/years after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organized, agitated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stent mental experiencing of event followed by long periods of avoidance and emotional numb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ance of anything associated with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ggerated startle responses, hyper aler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TDS Treatmen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ed research suggests immediate relief comes from support of teachers and classma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and teachers need to convey sense of calm and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ve-behavioral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y/group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TSD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can develop PTSD even if not directly physically threate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who lose a parent at particular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 for PTSD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tual Re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D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Center for PTS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ncptsd.va.gov/ncmain/ncdocs/videos/emv_child_trauma_gpv.html?opm=1&amp;rr=rr1541&amp;srt=d&amp;echorr=true#/ncmain/ncdocs/videos/children_trauma/c_t2_children_trauma_5mb.m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hildren’s Common Fea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-12 months – loss of support, loud unexpected, looming objects, stran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-24 months – separation from parent, strangers, inj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4-36 months – separation from parents, animals, dark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-6 years separation from parents, strangers, animals, darkness, inj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102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8004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mmon Fears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440" y="1980720"/>
            <a:ext cx="7086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-10 years – darkness, injury, being alone, imaginary be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-12 years – injury, social evaluations, school failure, ridicule, thunderstorms,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-18 years – school failure, peer rejection, family problems, wars, future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2048" descr=""/>
          <p:cNvPicPr/>
          <p:nvPr/>
        </p:nvPicPr>
        <p:blipFill>
          <a:blip r:embed="rId1"/>
          <a:stretch/>
        </p:blipFill>
        <p:spPr>
          <a:xfrm>
            <a:off x="6934320" y="5657760"/>
            <a:ext cx="17524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ources of fea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and cognitive limi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rving other people’s fearful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ult’s warnings about potential thre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064280" y="4114800"/>
            <a:ext cx="1755720" cy="2448000"/>
          </a:xfrm>
          <a:prstGeom prst="rect">
            <a:avLst/>
          </a:prstGeom>
          <a:ln w="0">
            <a:noFill/>
          </a:ln>
        </p:spPr>
      </p:pic>
      <p:pic>
        <p:nvPicPr>
          <p:cNvPr id="71" name="SIREN1.WAV" descr=""/>
          <p:cNvPicPr/>
          <p:nvPr/>
        </p:nvPicPr>
        <p:blipFill>
          <a:blip r:embed="rId2"/>
          <a:stretch/>
        </p:blipFill>
        <p:spPr>
          <a:xfrm>
            <a:off x="2057400" y="51814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375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hobia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440" y="19810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SM-IV-TR recognizes that children’s phobic symptoms differ from those of ad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eria for assessment includes age, duration, intensity, and type of f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00"/>
                </a:solidFill>
                <a:uFillTx/>
                <a:latin typeface="Times New Roman"/>
              </a:rPr>
              <a:t>Specific phobia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rsistent and unreasonable fear cued by presence or anticipation of a specific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hildren may not realize their fear is unreason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imal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atural environment ( storms, heights, wat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lood-injection-inju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tuational type (public transportation, tunnels, bridges etc.) School Phob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dailymotion.com/video/xhffk1_school-phobia-crippling-for-some-students_new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5min.com/Video/How-to-Treat-a-School-Phobia-665277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380880" y="0"/>
            <a:ext cx="24004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3:59:35Z</dcterms:created>
  <dc:creator>DMONEYPENNY</dc:creator>
  <dc:description/>
  <dc:language>en-US</dc:language>
  <cp:lastModifiedBy>Diane</cp:lastModifiedBy>
  <dcterms:modified xsi:type="dcterms:W3CDTF">2012-07-02T00:20:01Z</dcterms:modified>
  <cp:revision>53</cp:revision>
  <dc:subject/>
  <dc:title>Chapter 7</dc:title>
</cp:coreProperties>
</file>