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32208-A31C-477B-8231-B3574036B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7E4C-5D90-4DBA-A178-C51E52290E4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2A25-9986-4FB1-8B62-95551ACB5D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D6CC-4F6D-44B1-9FE6-A6D758E7A4A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239-BF36-4B39-A997-CBCC52ADB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2375-164F-4E8F-8DF6-C30064892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1B7-AB98-4306-A58E-F6DA35EDC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9A50-3D7E-4D57-B53E-330AF49B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EE50-7EA7-4DD7-A2D4-C9D4DA6AD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C38-EE8E-4935-84A7-16AEA311F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0FF8-BAF1-4401-B224-E6E45551D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3716-B110-46BE-942F-DE17C48E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E15C-6A23-4729-8250-0B22187B4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84B1-A9D5-4654-83FB-ED90D7A5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92B8-6A80-4783-A295-6FEF7AAE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FC4D-469C-49AB-8ED6-A7B5A5EC7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30C86-AA3B-4E56-BED7-A83044C115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0" y="1600200"/>
            <a:ext cx="6095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cbsnews.com/stories/2004/08/20/earlyshow/living/parenting/main637427.shtml" TargetMode="Externa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RmBJhtys9g&amp;feature=fvw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bnYWDHpFnFE&amp;feature=related" TargetMode="Externa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npz3I6alycc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Xt0ucxOrPQE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wE5F-FjbTRk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lTx8Ct43wPQ" TargetMode="External"/><Relationship Id="rId2" Type="http://schemas.openxmlformats.org/officeDocument/2006/relationships/hyperlink" Target="http://www.youtube.com/watch?v=POJ-YuXBk6I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ailymotion.com/video/xhffk1_school-phobia-crippling-for-some-students_news" TargetMode="External"/><Relationship Id="rId2" Type="http://schemas.openxmlformats.org/officeDocument/2006/relationships/hyperlink" Target="http://www.5min.com/Video/How-to-Treat-a-School-Phobia-66527717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COUN 575</a:t>
            </a:r>
            <a:br>
              <a:rPr sz="3400"/>
            </a:b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Diane Shea, Ph.D.</a:t>
            </a:r>
            <a:br>
              <a:rPr sz="3400"/>
            </a:br>
            <a:br>
              <a:rPr sz="3400"/>
            </a:b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9714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xiety Disord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819520" y="4321080"/>
            <a:ext cx="3733560" cy="2536920"/>
          </a:xfrm>
          <a:prstGeom prst="rect">
            <a:avLst/>
          </a:prstGeom>
          <a:ln w="0">
            <a:noFill/>
          </a:ln>
        </p:spPr>
      </p:pic>
      <p:pic>
        <p:nvPicPr>
          <p:cNvPr id="52" name="SUSPENSE.WAV" descr=""/>
          <p:cNvPicPr/>
          <p:nvPr/>
        </p:nvPicPr>
        <p:blipFill>
          <a:blip r:embed="rId2"/>
          <a:stretch/>
        </p:blipFill>
        <p:spPr>
          <a:xfrm>
            <a:off x="1371600" y="48769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658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eparation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07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cbsnews.com/stories/2004/08/20/earlyshow/living/parenting/main637427.shtm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a child grows less rather than more tolerant of separations from one or both par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e of most common childhood proble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how excessive age-inappropriate worries about sepa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hool refusal can be a form (DSM-IV) although some classify as sep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762120" y="457200"/>
            <a:ext cx="1304640" cy="16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eneralized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0720"/>
            <a:ext cx="739152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dRmBJhtys9g&amp;feature=fvw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ncontrollable, excessive anxiety and worry, occurring consistently for 6 months, extending to many events and activiti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shows one of following in extreme form: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rritabil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less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ti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fficulty in concentra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cle tension or sleep disturb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6858000" y="4280040"/>
            <a:ext cx="1828800" cy="20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GA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723888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 may be insecure, perfectionist (resembles OC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companied by depr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idespread anxiety in many different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bnYWDHpFnFE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6469200" y="5105520"/>
            <a:ext cx="2577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iagnosi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icult to diagno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verlap of symptoms of anxiety, mood and other internalizing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pends heavily on self-reported anxiety, fear or depression, difficult for young child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cial Phobia or Social Anxiety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npz3I6alyc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ttp://www.socialanxietyinstitute.org/video-2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verage onset is 15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ked by extreme self-consciousness and incapacitating anxiety in social situ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ccurs twice as often in women as men, but men are more likely to seek hel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Social Anxiety Disorder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072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plaining about pervasive fear of being observed, judged negativel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stant concern about inadvertently doing things that are humiliat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orry far in advance of social situa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eaks at informal gatherings rather than at formal situations or presentations, which are highly scrip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353040" cy="2278080"/>
          </a:xfrm>
          <a:prstGeom prst="rect">
            <a:avLst/>
          </a:prstGeom>
          <a:ln w="0">
            <a:noFill/>
          </a:ln>
        </p:spPr>
      </p:pic>
      <p:pic>
        <p:nvPicPr>
          <p:cNvPr id="93" name="EXPLODE.WAV" descr=""/>
          <p:cNvPicPr/>
          <p:nvPr/>
        </p:nvPicPr>
        <p:blipFill>
          <a:blip r:embed="rId2"/>
          <a:stretch/>
        </p:blipFill>
        <p:spPr>
          <a:xfrm>
            <a:off x="3124080" y="495288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136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Vicious Cycl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cial phobic children are less socially skillfu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raw negative reactions from pe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ndermines self-confidence, leading to further social failur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6553080" y="4191120"/>
            <a:ext cx="2076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chool-Related Avoidance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44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t in DSM-IV as separate disorder, but as symptom of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voidance of school motivated by intense fear and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stem from specific phob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indicate generalized anxiety or separation anxie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6934320" y="4114800"/>
            <a:ext cx="173340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wo Types of Refusal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980720"/>
            <a:ext cx="6629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d acute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fects younger children, little or no family discord, sudden on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re chronic school ref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ypical in children over 11 from unstable famil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6781680" y="4114800"/>
            <a:ext cx="19051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Etiology of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4448160" y="3666960"/>
            <a:ext cx="423864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br>
              <a:rPr sz="3800"/>
            </a:b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828440"/>
            <a:ext cx="6095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(P. 42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Disorder Without Agora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goraphobia  Without History of  P.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cific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cial Phob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ve-Compulsive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cute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sttraumatic Stress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eralized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5791320" y="3666960"/>
            <a:ext cx="335268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dymanic Theor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reud – psychologically created tension, anxiety, guilt, sexual jealous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esent day theory loosely based on psychoanalysis, but emphasizes importance of social rather than sexual inter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person wants to be center of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develops specific phobia or anxiety as a way of expressing an unacceptable desi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lert.wav" descr=""/>
          <p:cNvPicPr/>
          <p:nvPr/>
        </p:nvPicPr>
        <p:blipFill>
          <a:blip r:embed="rId1"/>
          <a:stretch/>
        </p:blipFill>
        <p:spPr>
          <a:xfrm>
            <a:off x="7620120" y="2666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8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51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ocial Learning and Cognitive/Behavioral  Approache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cal Condition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Xt0ucxOrPQ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ndura’s Self-efficacy the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ople don’t develop fears so much from fright paired with sight of feared object as from anxiety that they cannot successfully avoid feared object and protect themselv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s for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ofeedb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atic Desensit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osure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wE5F-FjbTR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SR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ta-block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enzodiazepin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2120" y="1752120"/>
            <a:ext cx="71625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6676920" y="50101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1625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TSD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sistent avoidance of stimuli associated with trauma and numbing of general responsivenes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thoughts, feelings or conversations associated with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voids activities, places, people that arouse recollections of the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ability to recall an important aspect of traum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minished interest in significant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achment or estrangement of ot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stricted range of aff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nse of foreshortened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Post Traumatic Stress Disorder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66320" y="1600200"/>
            <a:ext cx="76964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symptoms of increased arous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falling/staying aslee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itability or outbursts of ang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iculty concentrat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ypervigil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pbs.org/now/shows/339/index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information/videos.js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mefeedia.com/tags/em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2060"/>
                </a:solidFill>
                <a:latin typeface="Times New Roman"/>
              </a:rPr>
              <a:t>http://www.ncptsd.va.gov/ncmain/ncdocs/videos/emv_hoperecovery_gpv.htm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dapted from: DSM-IV-TR, American Psychiatric Association, 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Biological Contributo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22860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nts in recent research suggests that there may be complex multiple gene contributions to anxiety and panic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ren of mothers, but not fathers, who have a lifetime history of anxiety disorder are doubly at ri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earch suggests that stable differences in brain activity may characterize certain children as susceptible to anxiety disord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3048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rognosis for Children with Phobias and Anxiety Disord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391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 early phobias are quickly and effectively treated b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ognosis is worse for those with severe anxiety disorde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en they persist only 20%   are eventually overc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ear of physical illness and social anxiety disorder tend to persist throughout 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7315200" y="4876920"/>
            <a:ext cx="16002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sychological Interven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sychodynamic Therap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 encouraged to act out fears and fantasies in therapy sess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alyst interprets meaning of fantas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ilds troubling unconscious feelings transferred from parent to analy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bic reactions disappear without specific intervention when psychological conflicts have been resolv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00"/>
                </a:solidFill>
                <a:latin typeface="Times New Roman"/>
              </a:rPr>
              <a:t>Psychological Interventions (continued)</a:t>
            </a:r>
            <a:endParaRPr b="0" lang="en-US" sz="3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iqu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ensive and time consuming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FOGHORN.WAV" descr=""/>
          <p:cNvPicPr/>
          <p:nvPr/>
        </p:nvPicPr>
        <p:blipFill>
          <a:blip r:embed="rId1"/>
          <a:stretch/>
        </p:blipFill>
        <p:spPr>
          <a:xfrm>
            <a:off x="1143000" y="5486400"/>
            <a:ext cx="6508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192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" dur="3073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980720"/>
            <a:ext cx="693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. 121-134)  Other Disorders of Infancy, Childhood, or Adolesce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paration Anxiety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ve Mut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active Attach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youtube.com/watch?v=lTx8Ct43wPQ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ereotypic Movement Disord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youtube.com/watch?v=POJ-YuXBk6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Otherwise Specifi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3"/>
          <a:stretch/>
        </p:blipFill>
        <p:spPr>
          <a:xfrm>
            <a:off x="7086600" y="4419720"/>
            <a:ext cx="156204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ystematic Desensitization Therap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440" y="19810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akes place in gradual ste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 on child’s learning to relax in stress-inducing circumstances by going through fear hierarchies from mild to most seve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xation used to counteract  the muscular tension of anxie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youtube.com/watch?v=TwCITgdBzI4&amp;feature=relat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wback: doesn’t teach child to deal with what they fear, so needs to be coupled with other treatmen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Modeling and Guided Participat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ective in treating children's specific phobias especially when limited to a particular sit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eling: Child’s confidence built by watching someone else deal with feared stimu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ided Participation: Carefully supervised confrontations with feared stimulus in natural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gnitive-Behavioral Treatment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ultifaceted cognitive-behavioral treatment very effective, and rigorously tested.  Techniques inclu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difying anxious self-tal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aching problem solving and behavioral strateg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206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Times New Roman"/>
              </a:rPr>
              <a:t>http://vodpod.com/watch/1264747-emdr-effective-for-trauma-pts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685440" y="1981080"/>
            <a:ext cx="716292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on rituals or routines reassure young children and provide sense of sec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thological obsessive-compulsive behavior consists of attempts to reduce severe anxiety and involves unusual activiti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nd was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a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crubbing already spotless surround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"/>
          <p:cNvPicPr/>
          <p:nvPr/>
        </p:nvPicPr>
        <p:blipFill>
          <a:blip r:embed="rId1"/>
          <a:stretch/>
        </p:blipFill>
        <p:spPr>
          <a:xfrm>
            <a:off x="7391520" y="44956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pulsive Childre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685800" y="1981080"/>
            <a:ext cx="72388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can develop without obses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ituals involving washing, repeatedly arranging objects, or checking on location of certain objects over and o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ve children may develop phobias, depression, and neurological condi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914400" y="3808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Obsession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ons usually accompany other problems (phobias, depress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kely to persist through lif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Picture 5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67652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SM-IV-TR for OC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bsessions and compulsions are senseless repeated thoughts, images, or impulses (obsessions) or repetitive acts (compulsions) that 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nrealistic and dysfunct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unwelcome but irresist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perienced as products of one’s own mind rather than external threa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itualistic and stereotyp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ime-consum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ruptive of everyday activit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ypical features for youngste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ssive themes – contamination, aggression, maintaining ultra strict order, fear that family members might be kill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ulsions – checking under bed constantly, wipe possessions repeatedly, tapping.  Most engage in rituals at home and try to hide the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of Obsessive-Compulsive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 – most recommended treatment, alone or combined with an SSRI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act with anxiety-provoking event followed by guided, prolonged exposure to feared stimulus, 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udden exposure to feared stimulus. To demonstrate that compulsive behavior is not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osttraumatic Stress Disorder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pbs.org/now/shows/339/index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perienced by people who have experienced an extremely devastating event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ersistent and unwilling re-experiencing of traumatic event, persistent attempts to avoid all thoughts and acts related to the event, and a high state of arous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Defining Fear and Anxiety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blems of anxious children much less obvious, more difficult to ass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ear – strong emotional alarm reaction to real or perceived danger.  Sympathetic nervous system stimulates flight or fight respon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nic – sudden overwhelming state of extreme terror or f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xiety – persistent concern about danger in the futu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Picture 1024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90476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Symptom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develop immediately or months/years after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sorganized, agitated behavi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rsistent mental experiencing of event followed by long periods of avoidance and emotional numb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voidance of anything associated with ev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ggerated startle responses, hyper alertnes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DS Treatment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imited research suggests immediate relief comes from support of teachers and classmate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ents and teachers need to convey sense of calm and contro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gnitive-behavioral thera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mily/group trea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TSD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can develop PTSD even if not directly physically threaten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ildren who lose a parent at particular ris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Treatment for PTSD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irtual Real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D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d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tional Center for PTS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ncptsd.va.gov/ncmain/ncdocs/videos/emv_child_trauma_gpv.html?opm=1&amp;rr=rr1541&amp;srt=d&amp;echorr=true#/ncmain/ncdocs/videos/children_trauma/c_t2_children_trauma_5mb.m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120" y="6091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hildren’s Common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-12 months – loss of support, loud unexpected, looming objects, stran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24 months – separation from parent, stranger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4-36 months – separation from parents, animals, dark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-6 years separation from parents, strangers, animals, darkness, inju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Picture 1024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280044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Common Fears (Continued)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440" y="1980720"/>
            <a:ext cx="7086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-10 years – darkness, injury, being alone, imaginary be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-12 years – injury, social evaluations, school failure, ridicule, thunderstorms,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2-18 years – school failure, peer rejection, family problems, wars, future pla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2048" descr=""/>
          <p:cNvPicPr/>
          <p:nvPr/>
        </p:nvPicPr>
        <p:blipFill>
          <a:blip r:embed="rId1"/>
          <a:stretch/>
        </p:blipFill>
        <p:spPr>
          <a:xfrm>
            <a:off x="6934320" y="5657760"/>
            <a:ext cx="17524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Sources of fear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hysical and cognitive limit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bserving other people’s fearful reac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dult’s warnings about potential threa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064280" y="4114800"/>
            <a:ext cx="1755720" cy="2448000"/>
          </a:xfrm>
          <a:prstGeom prst="rect">
            <a:avLst/>
          </a:prstGeom>
          <a:ln w="0">
            <a:noFill/>
          </a:ln>
        </p:spPr>
      </p:pic>
      <p:pic>
        <p:nvPicPr>
          <p:cNvPr id="71" name="SIREN1.WAV" descr=""/>
          <p:cNvPicPr/>
          <p:nvPr/>
        </p:nvPicPr>
        <p:blipFill>
          <a:blip r:embed="rId2"/>
          <a:stretch/>
        </p:blipFill>
        <p:spPr>
          <a:xfrm>
            <a:off x="2057400" y="51814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375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Times New Roman"/>
              </a:rPr>
              <a:t>Phobia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1981080"/>
            <a:ext cx="70866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SM-IV-TR recognizes that children’s phobic symptoms differ from those of adul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iteria for assessment includes age, duration, intensity, and type of fe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57400" y="6091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009900"/>
                </a:solidFill>
                <a:uFillTx/>
                <a:latin typeface="Times New Roman"/>
              </a:rPr>
              <a:t>Specific phobia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Persistent and unreasonable fear cued by presence or anticipation of a specific objec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Children may not realize their fear is unreason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Animal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Natural environment ( storms, heights, wa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Blood-injection-inju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Situational type (public transportation, tunnels, bridges etc.) School Phob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dailymotion.com/video/xhffk1_school-phobia-crippling-for-some-students_new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5min.com/Video/How-to-Treat-a-School-Phobia-6652771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34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380880" y="0"/>
            <a:ext cx="24004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1T03:59:35Z</dcterms:created>
  <dc:creator>DMONEYPENNY</dc:creator>
  <dc:description/>
  <dc:language>en-US</dc:language>
  <cp:lastModifiedBy>Diane</cp:lastModifiedBy>
  <dcterms:modified xsi:type="dcterms:W3CDTF">2012-07-02T00:20:01Z</dcterms:modified>
  <cp:revision>53</cp:revision>
  <dc:subject/>
  <dc:title>Chapter 7</dc:title>
</cp:coreProperties>
</file>