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6465-8380-4A25-88FB-82FC0E9B7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93D7-D228-4B9B-BD5C-02534B1DD9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2EC-C873-4A2C-B290-704A402039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DD6D-D150-4B9E-A50E-EB9CAA606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026-B456-4C83-A60E-6E9A1595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295-E436-4250-9CAF-1035D6E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CE1-60BD-4B39-B5B8-4C19D731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6A1-8CF8-4DCD-A457-2D5A0EEF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1CE-040E-4219-A517-18A165F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1B4-8589-4D76-BF02-646B47A6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BB3-FF91-4A0E-9330-0A657AFA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2A0-2F31-49C4-A1DC-22EAAEF3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8B8-4E4E-4DCD-8B2A-29DD3D4A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EAB-8A96-4390-B218-16E973AE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7EA-5E06-437E-B42C-2811401B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D2B-D91F-4609-AECD-04CB45B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32B-5C3C-4B98-ABE9-A7E79FB6C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bsnews.com/stories/2004/08/20/earlyshow/living/parenting/main637427.s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RmBJhtys9g&amp;feature=fvw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nYWDHpFnFE&amp;feature=related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pz3I6alyc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E5F-FjbTRk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Tx8Ct43wPQ" TargetMode="External"/><Relationship Id="rId2" Type="http://schemas.openxmlformats.org/officeDocument/2006/relationships/hyperlink" Target="http://www.youtube.com/watch?v=POJ-YuXBk6I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hffk1_school-phobia-crippling-for-some-students_news" TargetMode="External"/><Relationship Id="rId2" Type="http://schemas.openxmlformats.org/officeDocument/2006/relationships/hyperlink" Target="http://www.5min.com/Video/How-to-Treat-a-School-Phobia-66527717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iane Shea, Ph.D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819520" y="4321080"/>
            <a:ext cx="3733560" cy="2536920"/>
          </a:xfrm>
          <a:prstGeom prst="rect">
            <a:avLst/>
          </a:prstGeom>
          <a:ln w="0">
            <a:noFill/>
          </a:ln>
        </p:spPr>
      </p:pic>
      <p:pic>
        <p:nvPicPr>
          <p:cNvPr id="52" name="SUSPENSE.WAV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bsnews.com/stories/2004/08/20/earlyshow/living/parenting/main637427.s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04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dRmBJhtys9g&amp;feature=fv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858000" y="4280040"/>
            <a:ext cx="18288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bnYWDHpFnFE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6469200" y="5105520"/>
            <a:ext cx="257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Phobia or Social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npz3I6aly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socialanxietyinstitute.org/video-2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353040" cy="2278080"/>
          </a:xfrm>
          <a:prstGeom prst="rect">
            <a:avLst/>
          </a:prstGeom>
          <a:ln w="0">
            <a:noFill/>
          </a:ln>
        </p:spPr>
      </p:pic>
      <p:pic>
        <p:nvPicPr>
          <p:cNvPr id="93" name="EXPLODE.WAV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13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076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1733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9807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448160" y="3666960"/>
            <a:ext cx="4238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82844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. 42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Disorder Without Agora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oraphobia  Without History of  P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ve-Compulsive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traumatic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ized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791320" y="3666960"/>
            <a:ext cx="3352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lert.wav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5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cial Learning and Cognitive/Behavioral  Approach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Conditio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s for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atic Desens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ur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wE5F-FjbT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a-bloc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nzodiazep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75212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TS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avoidance of stimuli associated with trauma and numbing of general respons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thoughts, feelings or conversations associated with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activities, places, people that arouse recollections of the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bility to recall an important aspect of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ished interest in significant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achment or estrangement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range of a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e of foreshortened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60020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symptoms of increased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falling/staying a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itability or outbursts of 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concentr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vigi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pbs.org/now/shows/339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information/videos.j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mefeedia.com/tags/em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ncdocs/videos/emv_hoperecovery_gpv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apted from: DSM-IV-TR, American Psychiatric Association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FOGHORN.WAV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650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07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07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. 121-134)  Other Disorders of Infancy, Childhood, or Adolesc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ion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Mu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tive Attach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lTx8Ct43wP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eotypic Move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youtube.com/watch?v=POJ-YuXBk6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therwise Spec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7086600" y="4419720"/>
            <a:ext cx="15620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stematic 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youtube.com/watch?v=TwCITgdBzI4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http://vodpod.com/watch/1264747-emdr-effective-for-trauma-pt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9810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391520" y="44956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676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for OC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pbs.org/now/shows/339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102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DS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for PTS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Center for PTS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102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800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07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048" descr=""/>
          <p:cNvPicPr/>
          <p:nvPr/>
        </p:nvPicPr>
        <p:blipFill>
          <a:blip r:embed="rId1"/>
          <a:stretch/>
        </p:blipFill>
        <p:spPr>
          <a:xfrm>
            <a:off x="6934320" y="5657760"/>
            <a:ext cx="17524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064280" y="4114800"/>
            <a:ext cx="17557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SIREN1.WAV" descr=""/>
          <p:cNvPicPr/>
          <p:nvPr/>
        </p:nvPicPr>
        <p:blipFill>
          <a:blip r:embed="rId2"/>
          <a:stretch/>
        </p:blipFill>
        <p:spPr>
          <a:xfrm>
            <a:off x="2057400" y="5181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7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00"/>
                </a:solidFill>
                <a:uFillTx/>
                <a:latin typeface="Times New Roman"/>
              </a:rPr>
              <a:t>Specific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sistent and unreasonable fear cued by presence or anticipation of a specific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ildren may not realize their fear is un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imal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ural environment ( storms, heights, w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od-injection-inju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tuational type (public transportation, tunnels, bridges etc.) School Pho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dailymotion.com/video/xhffk1_school-phobia-crippling-for-some-students_n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5min.com/Video/How-to-Treat-a-School-Phobia-665277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380880" y="0"/>
            <a:ext cx="24004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iane</cp:lastModifiedBy>
  <dcterms:modified xsi:type="dcterms:W3CDTF">2012-07-02T00:20:01Z</dcterms:modified>
  <cp:revision>53</cp:revision>
  <dc:subject/>
  <dc:title>Chapter 7</dc:title>
</cp:coreProperties>
</file>