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30BB-F0D0-4CB0-A1E8-BABBAC16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6857-814B-4A1E-B1D0-EDD9FAB8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D20-66E5-4243-9044-F2929D60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3FC-D549-4C5B-92E8-1B2D24E1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A0CF-E3CB-45D7-8E42-01EDBC4E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AE0-962F-40DA-BC51-361A5FA3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9559-5574-4D8F-8F1C-564A8325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F10-31DA-446C-99EB-67A1E04B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C35-1262-47D8-BBA2-64A378FE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ACB-5CE6-45FE-879B-47128894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ADAD-EA7D-4231-B0E0-2F647BF3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F1D-4D3B-440F-96E2-576D0B3E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D2E5-E02E-4B0C-9FC8-4DF776E90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18:46:37Z</dcterms:created>
  <dc:creator>Rita Sorrentino</dc:creator>
  <dc:description/>
  <dc:language>en-US</dc:language>
  <cp:lastModifiedBy>Rita Sorrentino</cp:lastModifiedBy>
  <dcterms:modified xsi:type="dcterms:W3CDTF">2012-07-04T18:47:06Z</dcterms:modified>
  <cp:revision>1</cp:revision>
  <dc:subject/>
  <dc:title>Test</dc:title>
</cp:coreProperties>
</file>