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107-6153-4A21-9283-B191122B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0FD-8B2A-4540-93DB-8CFBC03C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93BE-16A2-4FFC-A878-6830BD39B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F463-03F3-4A37-9F9A-095B0AC8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28DC-58A7-4D5A-8F98-8704C6DCA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03E2-0409-4860-8AC0-A76D60B3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DA51-BD3A-4F86-925A-63AECE62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0494-7988-482C-BC6C-070DD6DB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4E67-56AA-4F7F-9C85-C8945AA8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C2FF-D3DE-434E-AC5A-25390F1E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8D0B-8D0F-4A57-9A3B-F80E584A1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34AC-10EB-423B-B882-532DFFA8A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D581-80A0-49D4-8750-6600E5D75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8:46:37Z</dcterms:created>
  <dc:creator>Rita Sorrentino</dc:creator>
  <dc:description/>
  <dc:language>en-US</dc:language>
  <cp:lastModifiedBy>Rita Sorrentino</cp:lastModifiedBy>
  <dcterms:modified xsi:type="dcterms:W3CDTF">2012-07-04T18:47:06Z</dcterms:modified>
  <cp:revision>1</cp:revision>
  <dc:subject/>
  <dc:title>Test</dc:title>
</cp:coreProperties>
</file>