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384-151F-4585-AD19-069F078B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63F-53EB-4F04-BE70-8BCF8A92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D76-AA46-4B19-A4C9-5C44B511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6E5-2F7F-45E3-900F-F49400B8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AF6-146B-4C2A-9A29-CA46A2C2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BFC-B74F-4797-A9B7-0A29B149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ADC-86DB-4E03-AA42-F3227E90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4C0-E0B5-4A2B-9CBD-E453F232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E7E-69F4-4F6F-88B1-135F239D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A2B-A878-4EA6-8C2B-7B5074E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B02-1211-4786-96A8-E953E38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18E-9D54-4D03-A6F9-6B4E841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E717-4EE1-4C77-A46D-20C04396F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8:46:37Z</dcterms:created>
  <dc:creator>Rita Sorrentino</dc:creator>
  <dc:description/>
  <dc:language>en-US</dc:language>
  <cp:lastModifiedBy>Rita Sorrentino</cp:lastModifiedBy>
  <dcterms:modified xsi:type="dcterms:W3CDTF">2012-07-04T18:47:06Z</dcterms:modified>
  <cp:revision>1</cp:revision>
  <dc:subject/>
  <dc:title>Test</dc:title>
</cp:coreProperties>
</file>