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CB43-7FE1-4B58-85D1-1EEDED835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D744-4A7F-4AB9-8F26-CFD31CB41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C688-C550-4CD3-A66C-9078B81B1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A194-C736-461C-AC64-EBB26098C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173E-B755-4406-9C88-9BC8CF9C5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3F27-8F45-442E-BB68-CACF100B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CE7-3770-4333-AC86-9F944B2A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8641-3B16-4CEE-957E-62D01A86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FDE8-D33C-4B5B-B253-9BF4CC44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1460-F31B-4329-9428-92B93046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A56-8ED7-443B-A385-4FEB3BB7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02B-C11D-4EF9-863B-B1BF74D4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AAB53-C7A7-4F85-90E2-078060449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4T18:46:37Z</dcterms:created>
  <dc:creator>Rita Sorrentino</dc:creator>
  <dc:description/>
  <dc:language>en-US</dc:language>
  <cp:lastModifiedBy>Rita Sorrentino</cp:lastModifiedBy>
  <dcterms:modified xsi:type="dcterms:W3CDTF">2012-07-04T18:47:06Z</dcterms:modified>
  <cp:revision>1</cp:revision>
  <dc:subject/>
  <dc:title>Test</dc:title>
</cp:coreProperties>
</file>